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EC9-84F4-4E3B-9D50-CA1E6F5A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A39-58F9-4EDC-94BE-1A5A6A2A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B18-6C1A-4326-8CD7-0069A08E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2999-4AD7-476A-AD5C-F04F424C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970-1B49-4E0D-940D-3E641926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34B-ED98-4092-8382-55BF01CF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7D9-D93A-40AC-BB72-7C4B8FF9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10C-6D25-4E3C-B521-006653C4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BC4-53E6-4F5C-AFDD-BA5CEA1E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EF1-5BEF-48B2-AD0A-0E577E02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B60-8BBC-4F81-A072-CA7D0CC5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E42-15CD-45CF-BA79-C9688ECC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16B3-2DA1-4AF5-8570-87F0EB9D06A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1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2.png"/><Relationship Id="rId15" Type="http://schemas.openxmlformats.org/officeDocument/2006/relationships/image" Target="../media/image7.png"/><Relationship Id="rId16" Type="http://schemas.openxmlformats.org/officeDocument/2006/relationships/slide" Target="slide2.xml"/><Relationship Id="rId17" Type="http://schemas.openxmlformats.org/officeDocument/2006/relationships/slide" Target="slide16.xml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www.artisjus.hu/" TargetMode="External"/><Relationship Id="rId3" Type="http://schemas.openxmlformats.org/officeDocument/2006/relationships/hyperlink" Target="http://informatika.gtportal.eu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slide" Target="slide3.xml"/><Relationship Id="rId5" Type="http://schemas.openxmlformats.org/officeDocument/2006/relationships/slide" Target="slide11.xml"/><Relationship Id="rId6" Type="http://schemas.openxmlformats.org/officeDocument/2006/relationships/slide" Target="slide8.xml"/><Relationship Id="rId7" Type="http://schemas.openxmlformats.org/officeDocument/2006/relationships/slide" Target="slide6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" Target="slide2.xml"/><Relationship Id="rId13" Type="http://schemas.openxmlformats.org/officeDocument/2006/relationships/slide" Target="slide16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1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ím 1" descr=""/>
          <p:cNvPicPr/>
          <p:nvPr/>
        </p:nvPicPr>
        <p:blipFill>
          <a:blip r:embed="rId2"/>
          <a:stretch/>
        </p:blipFill>
        <p:spPr>
          <a:xfrm>
            <a:off x="2548080" y="974880"/>
            <a:ext cx="6615000" cy="2963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782880" y="5514480"/>
            <a:ext cx="5361120" cy="1343160"/>
          </a:xfrm>
          <a:prstGeom prst="rect">
            <a:avLst/>
          </a:prstGeom>
          <a:solidFill>
            <a:srgbClr val="f8f8f8">
              <a:alpha val="20000"/>
            </a:srgbClr>
          </a:solidFill>
          <a:ln w="9360">
            <a:solidFill>
              <a:srgbClr val="ffffff">
                <a:alpha val="20000"/>
              </a:srgbClr>
            </a:solidFill>
            <a:miter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dcff81"/>
                </a:solidFill>
                <a:latin typeface="Calibri"/>
              </a:rPr>
              <a:t>Név: Drobilisch Marc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dcff81"/>
                </a:solidFill>
                <a:latin typeface="Calibri"/>
              </a:rPr>
              <a:t>Felkészítő tanár: Hídvégi Esz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dcff81"/>
                </a:solidFill>
                <a:latin typeface="Calibri"/>
              </a:rPr>
              <a:t>Iskola: Szentistvántelepi Általános Isk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dcff81"/>
                </a:solidFill>
                <a:latin typeface="Calibri"/>
              </a:rPr>
              <a:t>2011, Budakalász, Martinovics u.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zövegdoboz 5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zövegdoboz 6">
            <a:hlinkClick r:id="rId3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Kép 7" descr=""/>
          <p:cNvPicPr/>
          <p:nvPr/>
        </p:nvPicPr>
        <p:blipFill>
          <a:blip r:embed="rId4"/>
          <a:stretch/>
        </p:blipFill>
        <p:spPr>
          <a:xfrm>
            <a:off x="0" y="4221000"/>
            <a:ext cx="2843280" cy="2784600"/>
          </a:xfrm>
          <a:prstGeom prst="rect">
            <a:avLst/>
          </a:prstGeom>
          <a:ln w="0">
            <a:noFill/>
          </a:ln>
        </p:spPr>
      </p:pic>
      <p:sp>
        <p:nvSpPr>
          <p:cNvPr id="46" name="Ellipszis feliratnak 8"/>
          <p:cNvSpPr/>
          <p:nvPr/>
        </p:nvSpPr>
        <p:spPr>
          <a:xfrm>
            <a:off x="2411280" y="765000"/>
            <a:ext cx="6624720" cy="3816360"/>
          </a:xfrm>
          <a:prstGeom prst="wedgeEllipseCallout">
            <a:avLst>
              <a:gd name="adj1" fmla="val -47925"/>
              <a:gd name="adj2" fmla="val 5949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dcff81"/>
                </a:solidFill>
                <a:latin typeface="Calibri"/>
              </a:rPr>
              <a:t>Üdvözöllek!</a:t>
            </a:r>
            <a:br>
              <a:rPr sz="2200"/>
            </a:br>
            <a:r>
              <a:rPr b="0" lang="hu-HU" sz="2200" spc="-1" strike="noStrike">
                <a:solidFill>
                  <a:srgbClr val="dcff81"/>
                </a:solidFill>
                <a:latin typeface="Calibri"/>
              </a:rPr>
              <a:t>Tarts velem, s megismerheted az internet veszélyforrásait. A témakörök végén játékos feladatokkal, majd a kérdések megválaszolásával ellenőrizheted tudásodat!</a:t>
            </a:r>
            <a:br>
              <a:rPr sz="2200"/>
            </a:br>
            <a:r>
              <a:rPr b="0" lang="hu-HU" sz="2200" spc="-1" strike="noStrike">
                <a:solidFill>
                  <a:srgbClr val="dcff81"/>
                </a:solidFill>
                <a:latin typeface="Calibri"/>
              </a:rPr>
              <a:t>Jó munká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3000"/>
                            </p:stCondLst>
                            <p:childTnLst>
                              <p:par>
                                <p:cTn id="8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Kép 5" descr=""/>
          <p:cNvPicPr/>
          <p:nvPr/>
        </p:nvPicPr>
        <p:blipFill>
          <a:blip r:embed="rId1"/>
          <a:stretch/>
        </p:blipFill>
        <p:spPr>
          <a:xfrm>
            <a:off x="6443640" y="4221000"/>
            <a:ext cx="2868480" cy="2808360"/>
          </a:xfrm>
          <a:prstGeom prst="rect">
            <a:avLst/>
          </a:prstGeom>
          <a:ln w="0">
            <a:noFill/>
          </a:ln>
        </p:spPr>
      </p:pic>
      <p:sp>
        <p:nvSpPr>
          <p:cNvPr id="146" name="Lekerekített téglalap feliratnak 10"/>
          <p:cNvSpPr/>
          <p:nvPr/>
        </p:nvSpPr>
        <p:spPr>
          <a:xfrm>
            <a:off x="1619280" y="549360"/>
            <a:ext cx="6553080" cy="718920"/>
          </a:xfrm>
          <a:prstGeom prst="wedgeRoundRectCallout">
            <a:avLst>
              <a:gd name="adj1" fmla="val 46939"/>
              <a:gd name="adj2" fmla="val 427013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Melyik a kakukktojás</a:t>
            </a: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églalap 2"/>
          <p:cNvSpPr/>
          <p:nvPr/>
        </p:nvSpPr>
        <p:spPr>
          <a:xfrm>
            <a:off x="2496960" y="2708280"/>
            <a:ext cx="2689560" cy="720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NOD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églalap 11"/>
          <p:cNvSpPr/>
          <p:nvPr/>
        </p:nvSpPr>
        <p:spPr>
          <a:xfrm>
            <a:off x="2484360" y="4437000"/>
            <a:ext cx="2689200" cy="720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GIMP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églalap 12"/>
          <p:cNvSpPr/>
          <p:nvPr/>
        </p:nvSpPr>
        <p:spPr>
          <a:xfrm>
            <a:off x="2484360" y="1844640"/>
            <a:ext cx="2689200" cy="720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Ava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églalap 13"/>
          <p:cNvSpPr/>
          <p:nvPr/>
        </p:nvSpPr>
        <p:spPr>
          <a:xfrm>
            <a:off x="2484360" y="3573360"/>
            <a:ext cx="2689200" cy="7192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Norton Internet Security</a:t>
            </a:r>
            <a:r>
              <a:rPr b="0" lang="hu-HU" sz="2400" spc="-1" strike="noStrike" baseline="30000">
                <a:solidFill>
                  <a:srgbClr val="dcff81"/>
                </a:solidFill>
                <a:latin typeface="Calibri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églalap 14"/>
          <p:cNvSpPr/>
          <p:nvPr/>
        </p:nvSpPr>
        <p:spPr>
          <a:xfrm>
            <a:off x="2484360" y="5265720"/>
            <a:ext cx="2689200" cy="7192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Csoportba foglalás 24"/>
          <p:cNvGrpSpPr/>
          <p:nvPr/>
        </p:nvGrpSpPr>
        <p:grpSpPr>
          <a:xfrm>
            <a:off x="2484360" y="1773360"/>
            <a:ext cx="2664000" cy="4092480"/>
            <a:chOff x="2484360" y="1773360"/>
            <a:chExt cx="2664000" cy="4092480"/>
          </a:xfrm>
        </p:grpSpPr>
        <p:sp>
          <p:nvSpPr>
            <p:cNvPr id="153" name="Szövegdoboz 18"/>
            <p:cNvSpPr/>
            <p:nvPr/>
          </p:nvSpPr>
          <p:spPr>
            <a:xfrm>
              <a:off x="2484360" y="177336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Szövegdoboz 21"/>
            <p:cNvSpPr/>
            <p:nvPr/>
          </p:nvSpPr>
          <p:spPr>
            <a:xfrm>
              <a:off x="2484360" y="263736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Szövegdoboz 22"/>
            <p:cNvSpPr/>
            <p:nvPr/>
          </p:nvSpPr>
          <p:spPr>
            <a:xfrm>
              <a:off x="2484360" y="350172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zövegdoboz 23"/>
            <p:cNvSpPr/>
            <p:nvPr/>
          </p:nvSpPr>
          <p:spPr>
            <a:xfrm>
              <a:off x="2484360" y="515808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Csoportba foglalás 25"/>
          <p:cNvGrpSpPr/>
          <p:nvPr/>
        </p:nvGrpSpPr>
        <p:grpSpPr>
          <a:xfrm>
            <a:off x="2484360" y="1844640"/>
            <a:ext cx="2664000" cy="4092480"/>
            <a:chOff x="2484360" y="1844640"/>
            <a:chExt cx="2664000" cy="4092480"/>
          </a:xfrm>
        </p:grpSpPr>
        <p:sp>
          <p:nvSpPr>
            <p:cNvPr id="158" name="Szövegdoboz 26"/>
            <p:cNvSpPr/>
            <p:nvPr/>
          </p:nvSpPr>
          <p:spPr>
            <a:xfrm>
              <a:off x="2484360" y="184464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zövegdoboz 27"/>
            <p:cNvSpPr/>
            <p:nvPr/>
          </p:nvSpPr>
          <p:spPr>
            <a:xfrm>
              <a:off x="2484360" y="270864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Szövegdoboz 28"/>
            <p:cNvSpPr/>
            <p:nvPr/>
          </p:nvSpPr>
          <p:spPr>
            <a:xfrm>
              <a:off x="2484360" y="357300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Szövegdoboz 29"/>
            <p:cNvSpPr/>
            <p:nvPr/>
          </p:nvSpPr>
          <p:spPr>
            <a:xfrm>
              <a:off x="2484360" y="522936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Csoportba foglalás 30"/>
          <p:cNvGrpSpPr/>
          <p:nvPr/>
        </p:nvGrpSpPr>
        <p:grpSpPr>
          <a:xfrm>
            <a:off x="2484360" y="1844640"/>
            <a:ext cx="2664000" cy="4092480"/>
            <a:chOff x="2484360" y="1844640"/>
            <a:chExt cx="2664000" cy="4092480"/>
          </a:xfrm>
        </p:grpSpPr>
        <p:sp>
          <p:nvSpPr>
            <p:cNvPr id="163" name="Szövegdoboz 31"/>
            <p:cNvSpPr/>
            <p:nvPr/>
          </p:nvSpPr>
          <p:spPr>
            <a:xfrm>
              <a:off x="2484360" y="184464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Szövegdoboz 32"/>
            <p:cNvSpPr/>
            <p:nvPr/>
          </p:nvSpPr>
          <p:spPr>
            <a:xfrm>
              <a:off x="2484360" y="270864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zövegdoboz 33"/>
            <p:cNvSpPr/>
            <p:nvPr/>
          </p:nvSpPr>
          <p:spPr>
            <a:xfrm>
              <a:off x="2484360" y="357300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Szövegdoboz 34"/>
            <p:cNvSpPr/>
            <p:nvPr/>
          </p:nvSpPr>
          <p:spPr>
            <a:xfrm>
              <a:off x="2484360" y="522936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Csoportba foglalás 35"/>
          <p:cNvGrpSpPr/>
          <p:nvPr/>
        </p:nvGrpSpPr>
        <p:grpSpPr>
          <a:xfrm>
            <a:off x="2484360" y="1844640"/>
            <a:ext cx="2664000" cy="4092480"/>
            <a:chOff x="2484360" y="1844640"/>
            <a:chExt cx="2664000" cy="4092480"/>
          </a:xfrm>
        </p:grpSpPr>
        <p:sp>
          <p:nvSpPr>
            <p:cNvPr id="168" name="Szövegdoboz 36"/>
            <p:cNvSpPr/>
            <p:nvPr/>
          </p:nvSpPr>
          <p:spPr>
            <a:xfrm>
              <a:off x="2484360" y="184464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zövegdoboz 37"/>
            <p:cNvSpPr/>
            <p:nvPr/>
          </p:nvSpPr>
          <p:spPr>
            <a:xfrm>
              <a:off x="2484360" y="270864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Szövegdoboz 38"/>
            <p:cNvSpPr/>
            <p:nvPr/>
          </p:nvSpPr>
          <p:spPr>
            <a:xfrm>
              <a:off x="2484360" y="357300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Szövegdoboz 39"/>
            <p:cNvSpPr/>
            <p:nvPr/>
          </p:nvSpPr>
          <p:spPr>
            <a:xfrm>
              <a:off x="2484360" y="5229360"/>
              <a:ext cx="2664000" cy="707760"/>
            </a:xfrm>
            <a:prstGeom prst="rect">
              <a:avLst/>
            </a:prstGeom>
            <a:solidFill>
              <a:srgbClr val="ffffff">
                <a:alpha val="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Ellipszis feliratnak 40"/>
          <p:cNvSpPr/>
          <p:nvPr/>
        </p:nvSpPr>
        <p:spPr>
          <a:xfrm>
            <a:off x="4643280" y="1700280"/>
            <a:ext cx="3384720" cy="1512720"/>
          </a:xfrm>
          <a:prstGeom prst="wedgeEllipseCallout">
            <a:avLst>
              <a:gd name="adj1" fmla="val 25148"/>
              <a:gd name="adj2" fmla="val 121708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cff81"/>
                </a:solidFill>
                <a:latin typeface="Calibri"/>
              </a:rPr>
              <a:t>Ez komoly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llipszis feliratnak 41"/>
          <p:cNvSpPr/>
          <p:nvPr/>
        </p:nvSpPr>
        <p:spPr>
          <a:xfrm>
            <a:off x="5975280" y="2133720"/>
            <a:ext cx="3168720" cy="1295280"/>
          </a:xfrm>
          <a:prstGeom prst="wedgeEllipseCallout">
            <a:avLst>
              <a:gd name="adj1" fmla="val 5023"/>
              <a:gd name="adj2" fmla="val 157666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cff81"/>
                </a:solidFill>
                <a:latin typeface="Calibri"/>
              </a:rPr>
              <a:t>Ne má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llipszis feliratnak 42"/>
          <p:cNvSpPr/>
          <p:nvPr/>
        </p:nvSpPr>
        <p:spPr>
          <a:xfrm>
            <a:off x="4932360" y="1700280"/>
            <a:ext cx="4211640" cy="1512720"/>
          </a:xfrm>
          <a:prstGeom prst="wedgeEllipseCallout">
            <a:avLst>
              <a:gd name="adj1" fmla="val 2388"/>
              <a:gd name="adj2" fmla="val 287671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cff81"/>
                </a:solidFill>
                <a:latin typeface="Calibri"/>
              </a:rPr>
              <a:t>Majd legközelebb! </a:t>
            </a:r>
            <a:r>
              <a:rPr b="0" lang="hu-HU" sz="2800" spc="-1" strike="noStrike">
                <a:solidFill>
                  <a:srgbClr val="dcff81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llipszis feliratnak 43"/>
          <p:cNvSpPr/>
          <p:nvPr/>
        </p:nvSpPr>
        <p:spPr>
          <a:xfrm>
            <a:off x="5076720" y="1989000"/>
            <a:ext cx="4067280" cy="1295640"/>
          </a:xfrm>
          <a:prstGeom prst="wedgeEllipseCallout">
            <a:avLst>
              <a:gd name="adj1" fmla="val 6999"/>
              <a:gd name="adj2" fmla="val 256509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cff81"/>
                </a:solidFill>
                <a:latin typeface="Calibri"/>
              </a:rPr>
              <a:t>Szerintem ne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llipszis feliratnak 45"/>
          <p:cNvSpPr/>
          <p:nvPr/>
        </p:nvSpPr>
        <p:spPr>
          <a:xfrm>
            <a:off x="1187280" y="5589720"/>
            <a:ext cx="2592720" cy="1268280"/>
          </a:xfrm>
          <a:prstGeom prst="wedgeEllipseCallout">
            <a:avLst>
              <a:gd name="adj1" fmla="val 161199"/>
              <a:gd name="adj2" fmla="val 103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cff81"/>
                </a:solidFill>
                <a:latin typeface="Calibri"/>
              </a:rPr>
              <a:t>Igeeen! </a:t>
            </a:r>
            <a:r>
              <a:rPr b="0" lang="hu-HU" sz="2800" spc="-1" strike="noStrike">
                <a:solidFill>
                  <a:srgbClr val="dcff81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églalap 47">
            <a:hlinkClick r:id="" action="ppaction://hlinkshowjump?jump=nextslide"/>
          </p:cNvPr>
          <p:cNvSpPr/>
          <p:nvPr/>
        </p:nvSpPr>
        <p:spPr>
          <a:xfrm>
            <a:off x="2843280" y="3213000"/>
            <a:ext cx="24494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cff81"/>
                </a:solidFill>
                <a:latin typeface="Calibri"/>
              </a:rPr>
              <a:t>Lépj tovább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zövegdoboz 44">
            <a:hlinkClick r:id="rId2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zövegdoboz 46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zövegdoboz 48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zövegdoboz 49">
            <a:hlinkClick r:id="rId3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0086 0.07893 E">
                                      <p:cBhvr>
                                        <p:cTn id="500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894 L 0.00174 0.15787 E">
                                      <p:cBhvr>
                                        <p:cTn id="517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3 0.15787 L 0.00087 0.24676 E">
                                      <p:cBhvr>
                                        <p:cTn id="534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24676 L 0.00087 0.4044 E">
                                      <p:cBhvr>
                                        <p:cTn id="551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4000"/>
                            </p:stCondLst>
                            <p:childTnLst>
                              <p:par>
                                <p:cTn id="6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ekerekített téglalap 6"/>
          <p:cNvSpPr/>
          <p:nvPr/>
        </p:nvSpPr>
        <p:spPr>
          <a:xfrm rot="5400000">
            <a:off x="5950440" y="3101040"/>
            <a:ext cx="5178600" cy="792000"/>
          </a:xfrm>
          <a:prstGeom prst="roundRect">
            <a:avLst>
              <a:gd name="adj" fmla="val 3315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NETIK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Kép 7" descr=""/>
          <p:cNvPicPr/>
          <p:nvPr/>
        </p:nvPicPr>
        <p:blipFill>
          <a:blip r:embed="rId1"/>
          <a:stretch/>
        </p:blipFill>
        <p:spPr>
          <a:xfrm rot="8436000">
            <a:off x="-982800" y="-876600"/>
            <a:ext cx="2867040" cy="2808360"/>
          </a:xfrm>
          <a:prstGeom prst="rect">
            <a:avLst/>
          </a:prstGeom>
          <a:ln w="0">
            <a:noFill/>
          </a:ln>
        </p:spPr>
      </p:pic>
      <p:sp>
        <p:nvSpPr>
          <p:cNvPr id="184" name="Lekerekített téglalap feliratnak 8"/>
          <p:cNvSpPr/>
          <p:nvPr/>
        </p:nvSpPr>
        <p:spPr>
          <a:xfrm>
            <a:off x="1619280" y="1362240"/>
            <a:ext cx="5977080" cy="4751280"/>
          </a:xfrm>
          <a:prstGeom prst="wedgeRoundRectCallout">
            <a:avLst>
              <a:gd name="adj1" fmla="val -44837"/>
              <a:gd name="adj2" fmla="val -75777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dcff81"/>
                </a:solidFill>
                <a:latin typeface="Calibri"/>
              </a:rPr>
              <a:t>A </a:t>
            </a:r>
            <a:r>
              <a:rPr b="1" lang="hu-HU" sz="2200" spc="-1" strike="noStrike" u="sng">
                <a:solidFill>
                  <a:srgbClr val="dcff81"/>
                </a:solidFill>
                <a:uFillTx/>
                <a:latin typeface="Calibri"/>
              </a:rPr>
              <a:t>netikett</a:t>
            </a:r>
            <a:r>
              <a:rPr b="1" lang="hu-HU" sz="2200" spc="-1" strike="noStrike">
                <a:solidFill>
                  <a:srgbClr val="dcff81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dcff81"/>
                </a:solidFill>
                <a:latin typeface="Calibri"/>
              </a:rPr>
              <a:t>, az internetezés alapszabályait tartalmazó, nemzetközi szabályzat. Főképp az online üzenetváltásoknál kell ezt figyelembe venni. Például illetlenségnek számít csupa nagy betűvel írni(kiabálni</a:t>
            </a:r>
            <a:r>
              <a:rPr b="0" lang="hu-HU" sz="2200" spc="-1" strike="noStrike">
                <a:solidFill>
                  <a:srgbClr val="dcff81"/>
                </a:solidFill>
                <a:latin typeface="Wingdings"/>
                <a:ea typeface="Wingdings"/>
              </a:rPr>
              <a:t></a:t>
            </a:r>
            <a:r>
              <a:rPr b="0" lang="hu-HU" sz="2200" spc="-1" strike="noStrike">
                <a:solidFill>
                  <a:srgbClr val="dcff81"/>
                </a:solidFill>
                <a:latin typeface="Calibri"/>
              </a:rPr>
              <a:t>). Fontos kitétele még az obszcén kifejezések kerülése és az írásjelek megfelelő használata. Természetesen nem szabad megfeledkeznünk arról, hogy webes chateléseink során teljes mértékben hiányzik a mimika és a hangsúlyozá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zövegdoboz 13">
            <a:hlinkClick r:id="rId2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zövegdoboz 14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zövegdoboz 15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zövegdoboz 16">
            <a:hlinkClick r:id="rId3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Kép 5" descr=""/>
          <p:cNvPicPr/>
          <p:nvPr/>
        </p:nvPicPr>
        <p:blipFill>
          <a:blip r:embed="rId1"/>
          <a:stretch/>
        </p:blipFill>
        <p:spPr>
          <a:xfrm>
            <a:off x="6443640" y="4221000"/>
            <a:ext cx="2868480" cy="2808360"/>
          </a:xfrm>
          <a:prstGeom prst="rect">
            <a:avLst/>
          </a:prstGeom>
          <a:ln w="0">
            <a:noFill/>
          </a:ln>
        </p:spPr>
      </p:pic>
      <p:sp>
        <p:nvSpPr>
          <p:cNvPr id="190" name="Lekerekített téglalap feliratnak 6"/>
          <p:cNvSpPr/>
          <p:nvPr/>
        </p:nvSpPr>
        <p:spPr>
          <a:xfrm>
            <a:off x="3851280" y="601560"/>
            <a:ext cx="4929120" cy="720720"/>
          </a:xfrm>
          <a:prstGeom prst="wedgeRoundRectCallout">
            <a:avLst>
              <a:gd name="adj1" fmla="val 28800"/>
              <a:gd name="adj2" fmla="val 425314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Kattints arra, amelyik szerinted, nem etikus internethasználat közben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llipszis 7"/>
          <p:cNvSpPr/>
          <p:nvPr/>
        </p:nvSpPr>
        <p:spPr>
          <a:xfrm>
            <a:off x="3935520" y="1916280"/>
            <a:ext cx="2016000" cy="8650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Más személy adatait használ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llipszis 8"/>
          <p:cNvSpPr/>
          <p:nvPr/>
        </p:nvSpPr>
        <p:spPr>
          <a:xfrm>
            <a:off x="1692360" y="1484280"/>
            <a:ext cx="2016000" cy="8650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Csokit enni chatelés közb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llipszis 9"/>
          <p:cNvSpPr/>
          <p:nvPr/>
        </p:nvSpPr>
        <p:spPr>
          <a:xfrm>
            <a:off x="3851280" y="3645000"/>
            <a:ext cx="2592360" cy="86364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Hangulatjeleket használ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llipszis 10"/>
          <p:cNvSpPr/>
          <p:nvPr/>
        </p:nvSpPr>
        <p:spPr>
          <a:xfrm>
            <a:off x="1143000" y="3105000"/>
            <a:ext cx="2219400" cy="11160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Trágárul/</a:t>
            </a:r>
            <a:br>
              <a:rPr sz="1800"/>
            </a:b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üzletrontóan hozzászóln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llipszis 11"/>
          <p:cNvSpPr/>
          <p:nvPr/>
        </p:nvSpPr>
        <p:spPr>
          <a:xfrm>
            <a:off x="1614600" y="4653000"/>
            <a:ext cx="2395440" cy="12510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CSUPA NAGYBETŰVEL ÍRÁ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zövegdoboz 16">
            <a:hlinkClick r:id="rId2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zövegdoboz 17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zövegdoboz 18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zövegdoboz 19">
            <a:hlinkClick r:id="rId3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40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path" presetID="1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86772E-007 C -0.06753 0.17438 -0.19392 0.26804 -0.28194 0.20698 C -0.36962 0.14662 -0.38559 -0.0444 -0.31805 -0.21878 C -0.25035 -0.39339 -0.12413 -0.48636 -0.03646 -0.42599 C 0.05156 -0.3654 0.06771 -0.17461 -1.38889E-006 2.86772E-007 Z">
                                      <p:cBhvr>
                                        <p:cTn id="666" dur="60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1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73636E-006 C 0.08681 -0.15194 0.22084 -0.21207 0.29861 -0.13321 C 0.37639 -0.05457 0.36858 0.13298 0.28177 0.28516 C 0.19514 0.43687 0.06181 0.49654 -0.0158 0.41744 C -0.09392 0.33881 -0.0868 0.15148 -1.94444E-006 -4.73636E-006 Z">
                                      <p:cBhvr>
                                        <p:cTn id="668" dur="60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7086E-006 C -2.5E-006 0.11794 0.06476 0.21369 0.14375 0.21369 C 0.23681 0.21369 0.27049 0.1073 0.28455 0.04278 L 0.29913 -0.04279 C 0.31372 -0.10731 0.34948 -0.21346 0.45452 -0.21346 C 0.52188 -0.21346 0.59844 -0.11795 0.59844 4.7086E-006 C 0.59844 0.11794 0.52188 0.21369 0.45452 0.21369 C 0.34948 0.21369 0.31372 0.1073 0.29913 0.04278 L 0.28455 -0.04279 C 0.27049 -0.10731 0.23681 -0.21346 0.14375 -0.21346 C 0.06476 -0.21346 -2.5E-006 -0.11795 -2.5E-006 4.7086E-006 Z">
                                      <p:cBhvr>
                                        <p:cTn id="670" dur="6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75763E-007 C -0.00851 -0.01503 -0.02014 -0.02544 -0.03107 -0.03631 C -0.04253 -0.04741 -0.0533 -0.0599 -0.06476 -0.071 C -0.07014 -0.07632 -0.07639 -0.07956 -0.08177 -0.08488 C -0.08715 -0.09019 -0.0901 -0.09759 -0.09462 -0.10384 C -0.10399 -0.11725 -0.10434 -0.11702 -0.11285 -0.12627 C -0.11875 -0.13992 -0.12656 -0.15148 -0.13489 -0.16258 C -0.14149 -0.18455 -0.15573 -0.19958 -0.16476 -0.2197 C -0.16753 -0.23497 -0.17083 -0.23728 -0.17517 -0.25093 C -0.18455 -0.2796 -0.17639 -0.25786 -0.18437 -0.27845 C -0.18611 -0.28816 -0.18837 -0.30088 -0.19219 -0.30967 C -0.1941 -0.31383 -0.19861 -0.32169 -0.19861 -0.32146 C -0.20173 -0.34089 -0.20226 -0.33511 -0.20642 -0.34945 C -0.20781 -0.35453 -0.20903 -0.35985 -0.21024 -0.36494 C -0.21076 -0.36679 -0.21163 -0.37026 -0.21163 -0.37003 C -0.21423 -0.40056 -0.21875 -0.43525 -0.20503 -0.46184 C -0.20364 -0.46762 -0.19462 -0.48451 -0.1908 -0.48797 C -0.18472 -0.49954 -0.18073 -0.51041 -0.17257 -0.51896 C -0.16649 -0.53492 -0.15798 -0.54787 -0.1467 -0.55712 C -0.14566 -0.55805 -0.13923 -0.56476 -0.1375 -0.56568 C -0.13368 -0.56776 -0.12969 -0.56915 -0.12587 -0.571 C -0.12326 -0.57216 -0.11805 -0.57447 -0.11805 -0.57424 C -0.10868 -0.58303 -0.09375 -0.58303 -0.08298 -0.58464 C -0.05052 -0.59621 -0.01771 -0.5784 0.01441 -0.57447 C 0.02483 -0.56938 0.03854 -0.56869 0.04948 -0.56753 C 0.0632 -0.56082 0.07813 -0.56082 0.09236 -0.55712 C 0.11007 -0.5525 0.12743 -0.54857 0.14514 -0.54487 C 0.19236 -0.53515 0.23854 -0.5222 0.28577 -0.51388 C 0.29236 -0.50948 0.29531 -0.50694 0.30278 -0.50509 C 0.30365 -0.50393 0.30521 -0.50231 0.30625 -0.50162 C 0.30816 -0.50069 0.31024 -0.50162 0.31163 -0.5 C 0.31389 -0.49722 0.31667 -0.48959 0.31667 -0.48936 C 0.32066 -0.4667 0.32118 -0.44311 0.32604 -0.42044 C 0.32465 -0.3957 0.32813 -0.32701 0.29879 -0.31499 C 0.28889 -0.30597 0.27882 -0.30897 0.26597 -0.30805 C 0.24167 -0.30204 0.21667 -0.29533 0.19236 -0.29232 C 0.16354 -0.29463 0.17587 -0.2907 0.15851 -0.3062 C 0.15504 -0.31314 0.15018 -0.31822 0.1467 -0.32516 C 0.14462 -0.32909 0.13976 -0.34135 0.13629 -0.34598 C 0.12465 -0.3617 0.10938 -0.37095 0.09618 -0.38414 C 0.08889 -0.3913 0.08299 -0.40125 0.07674 -0.41004 C 0.07483 -0.41698 0.07136 -0.42229 0.06893 -0.429 C 0.06684 -0.44704 0.06354 -0.46462 0.0625 -0.48266 C 0.06198 -0.49352 0.0625 -0.50463 0.06111 -0.5155 C 0.05781 -0.53978 0.05556 -0.53469 0.04948 -0.5518 C 0.04028 -0.57747 0.03403 -0.60315 0.01563 -0.61933 C 0.0099 -0.63113 0.01667 -0.6198 0.0092 -0.62627 C 0.00122 -0.63298 0.00799 -0.6376 -0.00677 -0.64177 C -0.0125 -0.64339 -0.01493 -0.64385 -0.02066 -0.64709 C -0.04601 -0.66096 -0.07396 -0.66651 -0.10121 -0.66952 C -0.10555 -0.66906 -0.11007 -0.66952 -0.11423 -0.6679 C -0.12239 -0.66466 -0.12986 -0.64477 -0.13628 -0.63668 C -0.1375 -0.63321 -0.13871 -0.62974 -0.1401 -0.62627 C -0.14132 -0.62327 -0.14305 -0.62072 -0.1441 -0.61772 C -0.14635 -0.6117 -0.14635 -0.60615 -0.1493 -0.60037 C -0.15052 -0.59135 -0.15312 -0.58464 -0.15573 -0.57609 C -0.15677 -0.56383 -0.15781 -0.5518 -0.15955 -0.53978 C -0.15781 -0.5 -0.1618 -0.47479 -0.14149 -0.4482 C -0.13351 -0.43756 -0.14219 -0.4438 -0.13107 -0.43247 C -0.12344 -0.42461 -0.11111 -0.41443 -0.10121 -0.41166 C -0.09566 -0.41004 -0.08993 -0.40934 -0.08437 -0.40819 C -0.08177 -0.40772 -0.07656 -0.40657 -0.07656 -0.40634 C -0.03785 -0.40796 0.00399 -0.41189 0.04149 -0.42738 C 0.06493 -0.4371 0.08646 -0.4512 0.1092 -0.46184 C 0.12448 -0.46901 0.15122 -0.4741 0.16754 -0.47572 C 0.18333 -0.47942 0.19844 -0.48266 0.21424 -0.48451 C 0.22917 -0.48982 0.24462 -0.49283 0.2599 -0.49653 C 0.31788 -0.49561 0.35243 -0.51318 0.39479 -0.47919 C 0.40295 -0.46485 0.41354 -0.45583 0.42222 -0.44288 C 0.42761 -0.43501 0.43177 -0.42553 0.43646 -0.41698 C 0.43837 -0.41351 0.44011 -0.41027 0.44167 -0.40657 C 0.44445 -0.39986 0.44948 -0.38575 0.44948 -0.38552 C 0.4533 -0.3654 0.46007 -0.3469 0.46511 -0.32701 C 0.46754 -0.27451 0.46615 -0.21369 0.4533 -0.16258 C 0.45052 -0.13483 0.44045 -0.11124 0.43125 -0.08649 C 0.42865 -0.07956 0.42674 -0.07054 0.42344 -0.06406 C 0.42153 -0.06059 0.41007 -0.04186 0.4066 -0.03631 C 0.40434 -0.03284 0.40347 -0.02798 0.40122 -0.02428 C 0.4007 -0.02336 0.38768 -0.00208 0.3842 0.00347 C 0.37969 0.01087 0.37188 0.01272 0.36632 0.01896 C 0.36094 0.02475 0.3559 0.03053 0.35035 0.03631 C 0.34705 0.04001 0.33906 0.04302 0.33507 0.04487 C 0.32361 0.05042 0.3132 0.05574 0.30122 0.05874 C 0.26893 0.05782 0.24497 0.05458 0.21424 0.0518 C 0.20486 0.0488 0.19531 0.04348 0.18542 0.0414 C 0.17552 0.03932 0.16597 0.03723 0.15556 0.03469 C 0.14115 0.02498 0.1257 0.01873 0.11042 0.01041 C 0.09792 0.0037 0.08455 -0.00809 0.07153 -0.01203 C 0.06233 -0.02105 0.05452 -0.0303 0.0441 -0.03631 C 0.03976 -0.03908 0.04045 -0.0377 0.03524 -0.03978 C 0.03247 -0.0407 0.02708 -0.04325 0.02708 -0.04302 C 0.01389 -0.04232 0.00347 -0.0407 -0.0092 -0.03816 C -0.01146 -0.02613 -0.01371 -0.0185 -0.01024 -0.00509 C -0.01024 -0.00347 -0.00798 -0.00416 -0.00677 -0.00347 C -0.00451 -0.00231 -0.00226 -0.00116 -1.38889E-006 1.75763E-007 Z">
                                      <p:cBhvr>
                                        <p:cTn id="672" dur="60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3469E-006 C 0.00555 0.0014 0.01042 0.00348 0.0158 0.0051 C 0.02518 0.01134 0.03299 0.01389 0.04306 0.0155 C 0.04983 0.0199 0.05712 0.02152 0.06389 0.02591 C 0.075 0.03331 0.06493 0.02984 0.07796 0.03285 C 0.08802 0.04141 0.10105 0.04464 0.11198 0.05019 C 0.13611 0.06268 0.1599 0.07818 0.18473 0.08812 C 0.19532 0.09784 0.18855 0.09321 0.19757 0.09691 C 0.20157 0.09853 0.20938 0.102 0.20938 0.102 C 0.22223 0.11587 0.20921 0.10408 0.2224 0.11055 C 0.229 0.11379 0.23316 0.11911 0.24046 0.12096 C 0.24618 0.12605 0.25278 0.12559 0.25868 0.12975 C 0.26771 0.13599 0.27778 0.13993 0.28733 0.14524 C 0.29254 0.14825 0.2974 0.15149 0.30278 0.1538 C 0.30764 0.15796 0.31198 0.15981 0.31719 0.16259 C 0.32188 0.1649 0.32518 0.16907 0.33004 0.17115 C 0.34445 0.19034 0.3224 0.16143 0.33924 0.18155 C 0.34202 0.18479 0.34705 0.19196 0.34705 0.19196 C 0.34861 0.19867 0.35348 0.21092 0.35348 0.21092 C 0.35712 0.23382 0.35799 0.25741 0.35348 0.28031 C 0.35261 0.29811 0.35157 0.31291 0.34566 0.32864 C 0.34393 0.33858 0.34046 0.34876 0.33403 0.35454 C 0.32379 0.37512 0.31563 0.3779 0.29757 0.38229 C 0.27761 0.3816 0.25782 0.38137 0.23785 0.38044 C 0.22379 0.37975 0.21025 0.37351 0.19636 0.37189 C 0.17136 0.36426 0.14532 0.35917 0.11962 0.35639 C 0.10973 0.35408 0.09983 0.3513 0.08959 0.34945 C 0.07743 0.34483 0.06493 0.34182 0.05226 0.33905 C 0.03924 0.33026 0.02327 0.32448 0.00921 0.31823 C 0.00486 0.31615 0.0007 0.31245 -0.00365 0.30968 C -0.0118 0.30436 -0.02223 0.30043 -0.03108 0.29742 C -0.03923 0.29441 -0.04704 0.28909 -0.05555 0.28701 C -0.0599 0.28586 -0.06858 0.28377 -0.06858 0.28377 C -0.07535 0.27799 -0.08299 0.27753 -0.09063 0.27499 C -0.11112 0.26805 -0.129 0.25487 -0.15035 0.25255 C -0.16303 0.24955 -0.17657 0.24284 -0.18959 0.24215 C -0.20938 0.24099 -0.22917 0.24099 -0.24914 0.2403 C -0.26945 0.24215 -0.28994 0.24238 -0.31025 0.24561 C -0.32883 0.24862 -0.34567 0.26203 -0.36476 0.26458 C -0.36858 0.26643 -0.37258 0.26805 -0.3764 0.2699 C -0.37813 0.27267 -0.38004 0.27545 -0.3816 0.27845 C -0.38525 0.28516 -0.38803 0.29279 -0.39202 0.29927 C -0.39862 0.31037 -0.40192 0.31823 -0.40765 0.32864 C -0.41737 0.34622 -0.40886 0.32563 -0.41528 0.34252 C -0.42015 0.37859 -0.40261 0.40981 -0.38681 0.43595 C -0.37587 0.45399 -0.36997 0.47434 -0.35556 0.48775 C -0.34601 0.50833 -0.33299 0.52105 -0.31789 0.53424 C -0.29705 0.55297 -0.3231 0.53424 -0.30244 0.55019 C -0.2948 0.55598 -0.29271 0.55574 -0.28421 0.56014 C -0.2665 0.56985 -0.25278 0.57887 -0.23351 0.58118 C -0.20244 0.5902 -0.16858 0.5717 -0.13751 0.56731 C -0.13021 0.565 -0.12258 0.5643 -0.11528 0.56222 C -0.10782 0.55551 -0.09948 0.55019 -0.09202 0.54326 C -0.06719 0.52036 -0.10156 0.55112 -0.08021 0.52938 C -0.0724 0.52129 -0.06354 0.51458 -0.05555 0.50672 C -0.04289 0.49423 -0.03195 0.47919 -0.01945 0.46694 C -0.01511 0.45607 -0.0092 0.44705 -0.00365 0.43757 C 0.00052 0.43017 0.00174 0.42323 0.00677 0.41698 C 0.00816 0.41236 0.00816 0.40704 0.01058 0.40311 C 0.01736 0.39154 0.02657 0.38044 0.03525 0.37189 C 0.03976 0.3557 0.04792 0.34784 0.05712 0.3372 C 0.06493 0.32841 0.05938 0.33165 0.06632 0.32864 C 0.07309 0.31985 0.08091 0.31338 0.08959 0.30968 C 0.09827 0.30204 0.10504 0.30066 0.1158 0.29927 C 0.13073 0.29973 0.14618 0.29996 0.16129 0.30089 C 0.17223 0.30158 0.18525 0.30852 0.19636 0.31129 C 0.2007 0.3143 0.20469 0.318 0.20938 0.32008 C 0.21198 0.32124 0.21476 0.32193 0.21719 0.32355 C 0.23039 0.33234 0.24254 0.34529 0.25348 0.35801 C 0.25938 0.36495 0.26598 0.36957 0.27171 0.37697 C 0.27448 0.38599 0.27778 0.39016 0.28212 0.39779 C 0.28646 0.41698 0.28855 0.4371 0.29115 0.45676 C 0.29063 0.47064 0.29098 0.48983 0.28855 0.5051 C 0.28768 0.51088 0.28664 0.51134 0.28473 0.51712 C 0.28368 0.52036 0.27865 0.53724 0.27691 0.54326 C 0.27622 0.54557 0.27414 0.54649 0.27292 0.54834 C 0.27066 0.55228 0.26858 0.55644 0.2665 0.56014 C 0.25625 0.57957 0.24132 0.59668 0.22361 0.602 C 0.21511 0.60847 0.20608 0.61009 0.19636 0.6124 C 0.11337 0.60963 0.15504 0.61703 0.11823 0.602 C 0.1158 0.59922 0.11285 0.59668 0.11042 0.59344 C 0.10955 0.59205 0.10903 0.58974 0.10799 0.58812 C 0.10417 0.5828 0.09636 0.57263 0.09636 0.57263 C 0.09341 0.56106 0.09723 0.57378 0.09115 0.56222 C 0.0875 0.55528 0.08525 0.54927 0.08073 0.54326 C 0.0783 0.53262 0.07153 0.52568 0.06771 0.5155 C 0.06563 0.50949 0.06337 0.50394 0.06129 0.49816 C 0.06042 0.49585 0.05868 0.49122 0.05868 0.49122 C 0.05712 0.47943 0.05504 0.46809 0.04966 0.45838 C 0.04601 0.44497 0.04254 0.43202 0.03924 0.4186 C 0.03768 0.4119 0.03438 0.40611 0.03247 0.39964 C 0.03073 0.37998 0.02952 0.36032 0.02743 0.34067 C 0.0283 0.29233 0.02761 0.24376 0.03004 0.19543 C 0.03039 0.18919 0.03351 0.18387 0.03525 0.17808 C 0.03611 0.17531 0.03785 0.16953 0.03785 0.16953 C 0.03681 0.15056 0.03629 0.13137 0.03525 0.1124 C 0.03473 0.10385 0.02952 0.09228 0.02743 0.08465 C 0.02153 0.06476 0.01684 0.04534 0.00799 0.02753 C 0.00555 0.01735 0.00174 0.00579 -0.00503 5.3469E-006 C -0.00643 -0.006 -0.00487 -0.00531 -0.00782 -0.00531 E">
                                      <p:cBhvr>
                                        <p:cTn id="674" dur="60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b3939"/>
                                      </p:to>
                                    </p:animClr>
                                    <p:animClr clrSpc="rgb">
                                      <p:cBhvr>
                                        <p:cTn id="6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3939"/>
                                      </p:to>
                                    </p:animClr>
                                    <p:set>
                                      <p:cBhvr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b3939"/>
                                      </p:to>
                                    </p:animClr>
                                    <p:animClr clrSpc="rgb">
                                      <p:cBhvr>
                                        <p:cTn id="7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3939"/>
                                      </p:to>
                                    </p:animClr>
                                    <p:set>
                                      <p:cBhvr>
                                        <p:cTn id="7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Kép 5" descr=""/>
          <p:cNvPicPr/>
          <p:nvPr/>
        </p:nvPicPr>
        <p:blipFill>
          <a:blip r:embed="rId1"/>
          <a:stretch/>
        </p:blipFill>
        <p:spPr>
          <a:xfrm>
            <a:off x="-1260360" y="0"/>
            <a:ext cx="2867040" cy="2808360"/>
          </a:xfrm>
          <a:prstGeom prst="rect">
            <a:avLst/>
          </a:prstGeom>
          <a:ln w="0">
            <a:noFill/>
          </a:ln>
        </p:spPr>
      </p:pic>
      <p:sp>
        <p:nvSpPr>
          <p:cNvPr id="201" name="Lekerekített téglalap feliratnak 6"/>
          <p:cNvSpPr/>
          <p:nvPr/>
        </p:nvSpPr>
        <p:spPr>
          <a:xfrm>
            <a:off x="2771640" y="549360"/>
            <a:ext cx="6048360" cy="1008000"/>
          </a:xfrm>
          <a:prstGeom prst="wedgeRoundRectCallout">
            <a:avLst>
              <a:gd name="adj1" fmla="val -73625"/>
              <a:gd name="adj2" fmla="val -44041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Hol használhatod a NETIKETT szabálya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ekerekített téglalap 7"/>
          <p:cNvSpPr/>
          <p:nvPr/>
        </p:nvSpPr>
        <p:spPr>
          <a:xfrm>
            <a:off x="2411280" y="3429000"/>
            <a:ext cx="5761080" cy="72072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A) Etika órá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ekerekített téglalap 8"/>
          <p:cNvSpPr/>
          <p:nvPr/>
        </p:nvSpPr>
        <p:spPr>
          <a:xfrm>
            <a:off x="2411280" y="4508640"/>
            <a:ext cx="5761080" cy="72072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B) Könyvtárb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ekerekített téglalap 9"/>
          <p:cNvSpPr/>
          <p:nvPr/>
        </p:nvSpPr>
        <p:spPr>
          <a:xfrm>
            <a:off x="2411280" y="5589720"/>
            <a:ext cx="5761080" cy="71892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C) Intern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Téglalap 11" descr=""/>
          <p:cNvPicPr/>
          <p:nvPr/>
        </p:nvPicPr>
        <p:blipFill>
          <a:blip r:embed="rId2"/>
          <a:stretch/>
        </p:blipFill>
        <p:spPr>
          <a:xfrm>
            <a:off x="6675480" y="1805040"/>
            <a:ext cx="1554120" cy="1114200"/>
          </a:xfrm>
          <a:prstGeom prst="rect">
            <a:avLst/>
          </a:prstGeom>
          <a:ln w="0">
            <a:noFill/>
          </a:ln>
        </p:spPr>
      </p:pic>
      <p:pic>
        <p:nvPicPr>
          <p:cNvPr id="206" name="Téglalap 31" descr=""/>
          <p:cNvPicPr/>
          <p:nvPr/>
        </p:nvPicPr>
        <p:blipFill>
          <a:blip r:embed="rId3"/>
          <a:stretch/>
        </p:blipFill>
        <p:spPr>
          <a:xfrm>
            <a:off x="6656400" y="1805040"/>
            <a:ext cx="1469880" cy="1114200"/>
          </a:xfrm>
          <a:prstGeom prst="rect">
            <a:avLst/>
          </a:prstGeom>
          <a:ln w="0">
            <a:noFill/>
          </a:ln>
        </p:spPr>
      </p:pic>
      <p:pic>
        <p:nvPicPr>
          <p:cNvPr id="207" name="Téglalap 32" descr=""/>
          <p:cNvPicPr/>
          <p:nvPr/>
        </p:nvPicPr>
        <p:blipFill>
          <a:blip r:embed="rId4"/>
          <a:stretch/>
        </p:blipFill>
        <p:spPr>
          <a:xfrm>
            <a:off x="6656400" y="1805040"/>
            <a:ext cx="1469880" cy="1114200"/>
          </a:xfrm>
          <a:prstGeom prst="rect">
            <a:avLst/>
          </a:prstGeom>
          <a:ln w="0">
            <a:noFill/>
          </a:ln>
        </p:spPr>
      </p:pic>
      <p:pic>
        <p:nvPicPr>
          <p:cNvPr id="208" name="Téglalap 33" descr=""/>
          <p:cNvPicPr/>
          <p:nvPr/>
        </p:nvPicPr>
        <p:blipFill>
          <a:blip r:embed="rId5"/>
          <a:stretch/>
        </p:blipFill>
        <p:spPr>
          <a:xfrm>
            <a:off x="6656400" y="1805040"/>
            <a:ext cx="1469880" cy="1114200"/>
          </a:xfrm>
          <a:prstGeom prst="rect">
            <a:avLst/>
          </a:prstGeom>
          <a:ln w="0">
            <a:noFill/>
          </a:ln>
        </p:spPr>
      </p:pic>
      <p:pic>
        <p:nvPicPr>
          <p:cNvPr id="209" name="Téglalap 34" descr=""/>
          <p:cNvPicPr/>
          <p:nvPr/>
        </p:nvPicPr>
        <p:blipFill>
          <a:blip r:embed="rId6"/>
          <a:stretch/>
        </p:blipFill>
        <p:spPr>
          <a:xfrm>
            <a:off x="6656400" y="1805040"/>
            <a:ext cx="1469880" cy="1114200"/>
          </a:xfrm>
          <a:prstGeom prst="rect">
            <a:avLst/>
          </a:prstGeom>
          <a:ln w="0">
            <a:noFill/>
          </a:ln>
        </p:spPr>
      </p:pic>
      <p:pic>
        <p:nvPicPr>
          <p:cNvPr id="210" name="Téglalap 35" descr=""/>
          <p:cNvPicPr/>
          <p:nvPr/>
        </p:nvPicPr>
        <p:blipFill>
          <a:blip r:embed="rId7"/>
          <a:stretch/>
        </p:blipFill>
        <p:spPr>
          <a:xfrm>
            <a:off x="6656400" y="1805040"/>
            <a:ext cx="1469880" cy="1114200"/>
          </a:xfrm>
          <a:prstGeom prst="rect">
            <a:avLst/>
          </a:prstGeom>
          <a:ln w="0">
            <a:noFill/>
          </a:ln>
        </p:spPr>
      </p:pic>
      <p:pic>
        <p:nvPicPr>
          <p:cNvPr id="211" name="Téglalap 36" descr=""/>
          <p:cNvPicPr/>
          <p:nvPr/>
        </p:nvPicPr>
        <p:blipFill>
          <a:blip r:embed="rId8"/>
          <a:stretch/>
        </p:blipFill>
        <p:spPr>
          <a:xfrm>
            <a:off x="6724800" y="1805040"/>
            <a:ext cx="1474560" cy="1114200"/>
          </a:xfrm>
          <a:prstGeom prst="rect">
            <a:avLst/>
          </a:prstGeom>
          <a:ln w="0">
            <a:noFill/>
          </a:ln>
        </p:spPr>
      </p:pic>
      <p:pic>
        <p:nvPicPr>
          <p:cNvPr id="212" name="Téglalap 37" descr=""/>
          <p:cNvPicPr/>
          <p:nvPr/>
        </p:nvPicPr>
        <p:blipFill>
          <a:blip r:embed="rId9"/>
          <a:stretch/>
        </p:blipFill>
        <p:spPr>
          <a:xfrm>
            <a:off x="6656400" y="1805040"/>
            <a:ext cx="1469880" cy="1114200"/>
          </a:xfrm>
          <a:prstGeom prst="rect">
            <a:avLst/>
          </a:prstGeom>
          <a:ln w="0">
            <a:noFill/>
          </a:ln>
        </p:spPr>
      </p:pic>
      <p:pic>
        <p:nvPicPr>
          <p:cNvPr id="213" name="Téglalap 38" descr=""/>
          <p:cNvPicPr/>
          <p:nvPr/>
        </p:nvPicPr>
        <p:blipFill>
          <a:blip r:embed="rId10"/>
          <a:stretch/>
        </p:blipFill>
        <p:spPr>
          <a:xfrm>
            <a:off x="6656400" y="1805040"/>
            <a:ext cx="1469880" cy="1114200"/>
          </a:xfrm>
          <a:prstGeom prst="rect">
            <a:avLst/>
          </a:prstGeom>
          <a:ln w="0">
            <a:noFill/>
          </a:ln>
        </p:spPr>
      </p:pic>
      <p:pic>
        <p:nvPicPr>
          <p:cNvPr id="214" name="Téglalap 39" descr=""/>
          <p:cNvPicPr/>
          <p:nvPr/>
        </p:nvPicPr>
        <p:blipFill>
          <a:blip r:embed="rId11"/>
          <a:stretch/>
        </p:blipFill>
        <p:spPr>
          <a:xfrm>
            <a:off x="6656400" y="1805040"/>
            <a:ext cx="1469880" cy="1114200"/>
          </a:xfrm>
          <a:prstGeom prst="rect">
            <a:avLst/>
          </a:prstGeom>
          <a:ln w="0">
            <a:noFill/>
          </a:ln>
        </p:spPr>
      </p:pic>
      <p:pic>
        <p:nvPicPr>
          <p:cNvPr id="215" name="Kép 41" descr="Start.png"/>
          <p:cNvPicPr/>
          <p:nvPr/>
        </p:nvPicPr>
        <p:blipFill>
          <a:blip r:embed="rId12"/>
          <a:stretch/>
        </p:blipFill>
        <p:spPr>
          <a:xfrm>
            <a:off x="2843280" y="1989000"/>
            <a:ext cx="3173400" cy="3162600"/>
          </a:xfrm>
          <a:prstGeom prst="rect">
            <a:avLst/>
          </a:prstGeom>
          <a:ln w="0">
            <a:noFill/>
          </a:ln>
        </p:spPr>
      </p:pic>
      <p:pic>
        <p:nvPicPr>
          <p:cNvPr id="216" name="Kép 43" descr=""/>
          <p:cNvPicPr/>
          <p:nvPr/>
        </p:nvPicPr>
        <p:blipFill>
          <a:blip r:embed="rId13"/>
          <a:stretch/>
        </p:blipFill>
        <p:spPr>
          <a:xfrm>
            <a:off x="-23760" y="1268280"/>
            <a:ext cx="2101680" cy="4162680"/>
          </a:xfrm>
          <a:prstGeom prst="rect">
            <a:avLst/>
          </a:prstGeom>
          <a:ln w="0">
            <a:noFill/>
          </a:ln>
        </p:spPr>
      </p:pic>
      <p:pic>
        <p:nvPicPr>
          <p:cNvPr id="217" name="Kép 44" descr=""/>
          <p:cNvPicPr/>
          <p:nvPr/>
        </p:nvPicPr>
        <p:blipFill>
          <a:blip r:embed="rId14"/>
          <a:stretch/>
        </p:blipFill>
        <p:spPr>
          <a:xfrm>
            <a:off x="-23760" y="1268280"/>
            <a:ext cx="2101680" cy="4162680"/>
          </a:xfrm>
          <a:prstGeom prst="rect">
            <a:avLst/>
          </a:prstGeom>
          <a:ln w="0">
            <a:noFill/>
          </a:ln>
        </p:spPr>
      </p:pic>
      <p:pic>
        <p:nvPicPr>
          <p:cNvPr id="218" name="Kép 42" descr=""/>
          <p:cNvPicPr/>
          <p:nvPr/>
        </p:nvPicPr>
        <p:blipFill>
          <a:blip r:embed="rId15"/>
          <a:stretch/>
        </p:blipFill>
        <p:spPr>
          <a:xfrm>
            <a:off x="0" y="3357720"/>
            <a:ext cx="2060640" cy="2060280"/>
          </a:xfrm>
          <a:prstGeom prst="rect">
            <a:avLst/>
          </a:prstGeom>
          <a:ln w="0">
            <a:noFill/>
          </a:ln>
        </p:spPr>
      </p:pic>
      <p:sp>
        <p:nvSpPr>
          <p:cNvPr id="219" name="Téglalap feliratnak 47">
            <a:hlinkClick r:id="" action="ppaction://hlinkshowjump?jump=nextslide"/>
          </p:cNvPr>
          <p:cNvSpPr/>
          <p:nvPr/>
        </p:nvSpPr>
        <p:spPr>
          <a:xfrm>
            <a:off x="3481560" y="3346560"/>
            <a:ext cx="2334960" cy="873000"/>
          </a:xfrm>
          <a:prstGeom prst="wedgeRectCallout">
            <a:avLst>
              <a:gd name="adj1" fmla="val -136236"/>
              <a:gd name="adj2" fmla="val -256435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Lépj tovább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zövegdoboz 29">
            <a:hlinkClick r:id="rId16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zövegdoboz 30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zövegdoboz 40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zövegdoboz 45">
            <a:hlinkClick r:id="rId17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600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3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34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4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4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5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0"/>
                            </p:stCondLst>
                            <p:childTnLst>
                              <p:par>
                                <p:cTn id="758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5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000"/>
                            </p:stCondLst>
                            <p:childTnLst>
                              <p:par>
                                <p:cTn id="765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72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7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7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8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9000"/>
                            </p:stCondLst>
                            <p:childTnLst>
                              <p:par>
                                <p:cTn id="786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3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79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0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0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0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7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0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2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7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2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2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83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Kép 9" descr=""/>
          <p:cNvPicPr/>
          <p:nvPr/>
        </p:nvPicPr>
        <p:blipFill>
          <a:blip r:embed="rId1"/>
          <a:stretch/>
        </p:blipFill>
        <p:spPr>
          <a:xfrm>
            <a:off x="5580000" y="5452920"/>
            <a:ext cx="2867040" cy="2810160"/>
          </a:xfrm>
          <a:prstGeom prst="rect">
            <a:avLst/>
          </a:prstGeom>
          <a:ln w="0">
            <a:noFill/>
          </a:ln>
        </p:spPr>
      </p:pic>
      <p:sp>
        <p:nvSpPr>
          <p:cNvPr id="225" name="Téglalap 24"/>
          <p:cNvSpPr/>
          <p:nvPr/>
        </p:nvSpPr>
        <p:spPr>
          <a:xfrm>
            <a:off x="1619280" y="1052640"/>
            <a:ext cx="5329080" cy="647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Te mit tennél ha a gépeden megnyílna egy számodra ismeretlen program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églalap 26"/>
          <p:cNvSpPr/>
          <p:nvPr/>
        </p:nvSpPr>
        <p:spPr>
          <a:xfrm>
            <a:off x="1619280" y="1916280"/>
            <a:ext cx="5329080" cy="649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Fel tudod sorolni a netikett alapvető pontjait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églalap 27"/>
          <p:cNvSpPr/>
          <p:nvPr/>
        </p:nvSpPr>
        <p:spPr>
          <a:xfrm>
            <a:off x="1619280" y="4508640"/>
            <a:ext cx="5329080" cy="649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Tudod-e, hogy melyik volt az első közösségi háló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églalap 28"/>
          <p:cNvSpPr/>
          <p:nvPr/>
        </p:nvSpPr>
        <p:spPr>
          <a:xfrm>
            <a:off x="1619280" y="2781360"/>
            <a:ext cx="5329080" cy="647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Milyen közösségi portálokat ismersz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églalap 29"/>
          <p:cNvSpPr/>
          <p:nvPr/>
        </p:nvSpPr>
        <p:spPr>
          <a:xfrm>
            <a:off x="1619280" y="3645000"/>
            <a:ext cx="5329080" cy="647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Ugye a te vírusirtód is biztonságos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églalap 30"/>
          <p:cNvSpPr/>
          <p:nvPr/>
        </p:nvSpPr>
        <p:spPr>
          <a:xfrm>
            <a:off x="7164360" y="1052640"/>
            <a:ext cx="711360" cy="647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Kész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églalap 31"/>
          <p:cNvSpPr/>
          <p:nvPr/>
        </p:nvSpPr>
        <p:spPr>
          <a:xfrm>
            <a:off x="7172280" y="1916280"/>
            <a:ext cx="712800" cy="649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Kész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églalap 32"/>
          <p:cNvSpPr/>
          <p:nvPr/>
        </p:nvSpPr>
        <p:spPr>
          <a:xfrm>
            <a:off x="7172280" y="2781360"/>
            <a:ext cx="712800" cy="647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Kész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églalap 33"/>
          <p:cNvSpPr/>
          <p:nvPr/>
        </p:nvSpPr>
        <p:spPr>
          <a:xfrm>
            <a:off x="7164360" y="3645000"/>
            <a:ext cx="711360" cy="647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Kész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églalap 34">
            <a:hlinkClick r:id="" action="ppaction://hlinkshowjump?jump=nextslide"/>
          </p:cNvPr>
          <p:cNvSpPr/>
          <p:nvPr/>
        </p:nvSpPr>
        <p:spPr>
          <a:xfrm>
            <a:off x="7164360" y="4508640"/>
            <a:ext cx="711360" cy="649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Kész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ekerekített téglalap feliratnak 36"/>
          <p:cNvSpPr/>
          <p:nvPr/>
        </p:nvSpPr>
        <p:spPr>
          <a:xfrm rot="5400000">
            <a:off x="5616360" y="3105000"/>
            <a:ext cx="5832360" cy="720720"/>
          </a:xfrm>
          <a:prstGeom prst="wedgeRoundRectCallout">
            <a:avLst>
              <a:gd name="adj1" fmla="val 40925"/>
              <a:gd name="adj2" fmla="val 91361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Lássuk, mit tudsz eddig az internetről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zövegdoboz 17">
            <a:hlinkClick r:id="rId2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zövegdoboz 18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zövegdoboz 19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zövegdoboz 20">
            <a:hlinkClick r:id="rId3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4000"/>
                            </p:stCondLst>
                            <p:childTnLst>
                              <p:par>
                                <p:cTn id="8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Kép 7" descr=""/>
          <p:cNvPicPr/>
          <p:nvPr/>
        </p:nvPicPr>
        <p:blipFill>
          <a:blip r:embed="rId1"/>
          <a:stretch/>
        </p:blipFill>
        <p:spPr>
          <a:xfrm>
            <a:off x="6372360" y="4240080"/>
            <a:ext cx="2867040" cy="2808360"/>
          </a:xfrm>
          <a:prstGeom prst="rect">
            <a:avLst/>
          </a:prstGeom>
          <a:ln w="0">
            <a:noFill/>
          </a:ln>
        </p:spPr>
      </p:pic>
      <p:sp>
        <p:nvSpPr>
          <p:cNvPr id="241" name="Lekerekített téglalap feliratnak 8"/>
          <p:cNvSpPr/>
          <p:nvPr/>
        </p:nvSpPr>
        <p:spPr>
          <a:xfrm>
            <a:off x="3851280" y="836640"/>
            <a:ext cx="4392720" cy="792000"/>
          </a:xfrm>
          <a:prstGeom prst="wedgeRoundRectCallout">
            <a:avLst>
              <a:gd name="adj1" fmla="val 31828"/>
              <a:gd name="adj2" fmla="val 350930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ekerekített téglalap feliratnak 11"/>
          <p:cNvSpPr/>
          <p:nvPr/>
        </p:nvSpPr>
        <p:spPr>
          <a:xfrm>
            <a:off x="1692360" y="2205000"/>
            <a:ext cx="4032000" cy="4032360"/>
          </a:xfrm>
          <a:prstGeom prst="wedgeRoundRectCallout">
            <a:avLst>
              <a:gd name="adj1" fmla="val 22347"/>
              <a:gd name="adj2" fmla="val -63250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Artisjus.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Informatika.gtportal.e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Biztonsagosinternet.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Internethotline.h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Avas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Iconarchive.co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zövegdoboz 22">
            <a:hlinkClick r:id="rId2"/>
          </p:cNvPr>
          <p:cNvSpPr/>
          <p:nvPr/>
        </p:nvSpPr>
        <p:spPr>
          <a:xfrm>
            <a:off x="1979640" y="2576520"/>
            <a:ext cx="1152360" cy="27612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zövegdoboz 23">
            <a:hlinkClick r:id="rId3"/>
          </p:cNvPr>
          <p:cNvSpPr/>
          <p:nvPr/>
        </p:nvSpPr>
        <p:spPr>
          <a:xfrm>
            <a:off x="1908000" y="2924280"/>
            <a:ext cx="2303640" cy="27756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zövegdoboz 24"/>
          <p:cNvSpPr/>
          <p:nvPr/>
        </p:nvSpPr>
        <p:spPr>
          <a:xfrm>
            <a:off x="1908000" y="3357720"/>
            <a:ext cx="2303640" cy="27612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zövegdoboz 25"/>
          <p:cNvSpPr/>
          <p:nvPr/>
        </p:nvSpPr>
        <p:spPr>
          <a:xfrm>
            <a:off x="1908000" y="3789360"/>
            <a:ext cx="1943280" cy="28728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zövegdoboz 28"/>
          <p:cNvSpPr/>
          <p:nvPr/>
        </p:nvSpPr>
        <p:spPr>
          <a:xfrm>
            <a:off x="1979640" y="4664160"/>
            <a:ext cx="1584360" cy="27756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zövegdoboz 29"/>
          <p:cNvSpPr/>
          <p:nvPr/>
        </p:nvSpPr>
        <p:spPr>
          <a:xfrm>
            <a:off x="1979640" y="4221000"/>
            <a:ext cx="1008000" cy="27648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zövegdoboz 14"/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zövegdoboz 15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zövegdoboz 16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zövegdoboz 17"/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4000"/>
                            </p:stCondLst>
                            <p:childTnLst>
                              <p:par>
                                <p:cTn id="9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6000"/>
                            </p:stCondLst>
                            <p:childTnLst>
                              <p:par>
                                <p:cTn id="963" nodeType="after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9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971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2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llipszis feliratnak 2"/>
          <p:cNvSpPr/>
          <p:nvPr/>
        </p:nvSpPr>
        <p:spPr>
          <a:xfrm>
            <a:off x="2771640" y="836640"/>
            <a:ext cx="6264360" cy="2592360"/>
          </a:xfrm>
          <a:prstGeom prst="wedgeEllipseCallout">
            <a:avLst>
              <a:gd name="adj1" fmla="val -47370"/>
              <a:gd name="adj2" fmla="val 94564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cff81"/>
                </a:solidFill>
                <a:latin typeface="Calibri"/>
              </a:rPr>
              <a:t>Köszönöm megtisztelő figyelmed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Kép 1" descr=""/>
          <p:cNvPicPr/>
          <p:nvPr/>
        </p:nvPicPr>
        <p:blipFill>
          <a:blip r:embed="rId1"/>
          <a:stretch/>
        </p:blipFill>
        <p:spPr>
          <a:xfrm>
            <a:off x="92160" y="3206880"/>
            <a:ext cx="2900160" cy="5645160"/>
          </a:xfrm>
          <a:prstGeom prst="rect">
            <a:avLst/>
          </a:prstGeom>
          <a:ln w="0">
            <a:noFill/>
          </a:ln>
        </p:spPr>
      </p:pic>
      <p:pic>
        <p:nvPicPr>
          <p:cNvPr id="255" name="Kép 6" descr="vista_start.png"/>
          <p:cNvPicPr/>
          <p:nvPr/>
        </p:nvPicPr>
        <p:blipFill>
          <a:blip r:embed="rId2"/>
          <a:srcRect l="29927" t="10902" r="29916" b="12851"/>
          <a:stretch/>
        </p:blipFill>
        <p:spPr>
          <a:xfrm>
            <a:off x="-36360" y="1368360"/>
            <a:ext cx="3671640" cy="5229360"/>
          </a:xfrm>
          <a:prstGeom prst="rect">
            <a:avLst/>
          </a:prstGeom>
          <a:ln w="0">
            <a:noFill/>
          </a:ln>
        </p:spPr>
      </p:pic>
      <p:sp>
        <p:nvSpPr>
          <p:cNvPr id="256" name="Szövegdoboz 12"/>
          <p:cNvSpPr/>
          <p:nvPr/>
        </p:nvSpPr>
        <p:spPr>
          <a:xfrm>
            <a:off x="1763640" y="6303960"/>
            <a:ext cx="6476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zövegdoboz 14"/>
          <p:cNvSpPr/>
          <p:nvPr/>
        </p:nvSpPr>
        <p:spPr>
          <a:xfrm>
            <a:off x="0" y="6524640"/>
            <a:ext cx="539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Kép 20" descr="desktop_underline.png"/>
          <p:cNvPicPr/>
          <p:nvPr/>
        </p:nvPicPr>
        <p:blipFill>
          <a:blip r:embed="rId3"/>
          <a:srcRect l="0" t="95152" r="0" b="0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259" name="Kép 18" descr="Windows_Cursor.png"/>
          <p:cNvPicPr/>
          <p:nvPr/>
        </p:nvPicPr>
        <p:blipFill>
          <a:blip r:embed="rId4"/>
          <a:stretch/>
        </p:blipFill>
        <p:spPr>
          <a:xfrm>
            <a:off x="9468000" y="3645000"/>
            <a:ext cx="145800" cy="23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000"/>
                            </p:stCondLst>
                            <p:childTnLst>
                              <p:par>
                                <p:cTn id="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8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017 1.85185E-006 C -0.01354 0.02222 -0.02882 0.03171 -0.04896 0.04028 C -0.06805 0.04884 -0.08541 0.05787 -0.10625 0.06041 C -0.11267 0.06296 -0.11944 0.06412 -0.12587 0.06666 C -0.13628 0.07083 -0.14531 0.07778 -0.15607 0.08079 C -0.1625 0.08889 -0.15521 0.08125 -0.16666 0.0868 C -0.17587 0.0912 -0.18402 0.0993 -0.19271 0.10486 C -0.19791 0.1125 -0.20243 0.11296 -0.20937 0.11898 C -0.21788 0.12662 -0.22343 0.13055 -0.23194 0.13727 C -0.24114 0.15579 -0.22378 0.12268 -0.25017 0.15555 C -0.25729 0.16458 -0.26701 0.16898 -0.27587 0.17361 C -0.28489 0.17824 -0.29375 0.18518 -0.30312 0.18773 C -0.31041 0.19791 -0.32708 0.20347 -0.33819 0.20787 C -0.34184 0.21296 -0.34514 0.21389 -0.35017 0.21597 C -0.3658 0.2368 -0.38889 0.24491 -0.40937 0.2544 C -0.41857 0.26713 -0.41319 0.26366 -0.4243 0.26666 C -0.43264 0.27199 -0.44253 0.27616 -0.45156 0.2787 C -0.47274 0.29236 -0.49843 0.29907 -0.52152 0.30301 C -0.55781 0.31782 -0.5967 0.33217 -0.63489 0.33518 C -0.64548 0.33889 -0.65625 0.33935 -0.66666 0.34329 C -0.67135 0.34514 -0.67569 0.34768 -0.68038 0.3493 C -0.68246 0.35 -0.68437 0.35069 -0.68646 0.35139 C -0.70694 0.37176 -0.65712 0.33866 -0.69531 0.34884 C -0.70121 0.35347 -0.70902 0.35926 -0.72239 0.36296 C -0.73541 0.36666 -0.76302 0.36967 -0.7743 0.37153 C -0.78003 0.37222 -0.78576 0.37199 -0.79114 0.37361 C -0.79271 0.37407 -0.79375 0.37731 -0.79548 0.37778 C -0.80538 0.38032 -0.81597 0.38009 -0.82604 0.38171 C -0.83871 0.38727 -0.84791 0.38819 -0.86215 0.38981 C -0.87152 0.40116 -0.88264 0.40046 -0.89427 0.40393 C -0.91215 0.40926 -0.92517 0.41227 -0.94409 0.41412 C -0.95087 0.41574 -0.95607 0.42014 -0.96232 0.42222 C -0.98038 0.42801 -0.99462 0.43981 -1.01302 0.43981 E">
                                      <p:cBhvr>
                                        <p:cTn id="989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302 0.43981 L -0.76389 0.40324 E">
                                      <p:cBhvr>
                                        <p:cTn id="995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ép 6" descr=""/>
          <p:cNvPicPr/>
          <p:nvPr/>
        </p:nvPicPr>
        <p:blipFill>
          <a:blip r:embed="rId1"/>
          <a:stretch/>
        </p:blipFill>
        <p:spPr>
          <a:xfrm>
            <a:off x="2916360" y="1743120"/>
            <a:ext cx="3338280" cy="3270240"/>
          </a:xfrm>
          <a:prstGeom prst="rect">
            <a:avLst/>
          </a:prstGeom>
          <a:ln w="0">
            <a:noFill/>
          </a:ln>
        </p:spPr>
      </p:pic>
      <p:sp>
        <p:nvSpPr>
          <p:cNvPr id="48" name="Szövegdoboz 7">
            <a:hlinkClick r:id="rId2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zövegdoboz 8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zövegdoboz 9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zövegdoboz 10">
            <a:hlinkClick r:id="rId3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llipszis feliratnak 11">
            <a:hlinkClick r:id="rId4" action="ppaction://hlinksldjump"/>
          </p:cNvPr>
          <p:cNvSpPr/>
          <p:nvPr/>
        </p:nvSpPr>
        <p:spPr>
          <a:xfrm>
            <a:off x="324000" y="4365720"/>
            <a:ext cx="2447640" cy="1530360"/>
          </a:xfrm>
          <a:prstGeom prst="wedgeEllipseCallout">
            <a:avLst>
              <a:gd name="adj1" fmla="val 49199"/>
              <a:gd name="adj2" fmla="val -73828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cff81"/>
                </a:solidFill>
                <a:latin typeface="Calibri"/>
              </a:rPr>
              <a:t>Szerzői jog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llipszis feliratnak 12">
            <a:hlinkClick r:id="rId5" action="ppaction://hlinksldjump"/>
          </p:cNvPr>
          <p:cNvSpPr/>
          <p:nvPr/>
        </p:nvSpPr>
        <p:spPr>
          <a:xfrm>
            <a:off x="6084720" y="981000"/>
            <a:ext cx="2448000" cy="863640"/>
          </a:xfrm>
          <a:prstGeom prst="wedgeEllipseCallout">
            <a:avLst>
              <a:gd name="adj1" fmla="val -66722"/>
              <a:gd name="adj2" fmla="val 89782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cff81"/>
                </a:solidFill>
                <a:latin typeface="Calibri"/>
              </a:rPr>
              <a:t>Netike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llipszis feliratnak 13">
            <a:hlinkClick r:id="rId6" action="ppaction://hlinksldjump"/>
          </p:cNvPr>
          <p:cNvSpPr/>
          <p:nvPr/>
        </p:nvSpPr>
        <p:spPr>
          <a:xfrm>
            <a:off x="1187280" y="189000"/>
            <a:ext cx="2737080" cy="1511280"/>
          </a:xfrm>
          <a:prstGeom prst="wedgeEllipseCallout">
            <a:avLst>
              <a:gd name="adj1" fmla="val 25023"/>
              <a:gd name="adj2" fmla="val 78768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cff81"/>
                </a:solidFill>
                <a:latin typeface="Calibri"/>
              </a:rPr>
              <a:t>Biztonságos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llipszis feliratnak 14">
            <a:hlinkClick r:id="rId7" action="ppaction://hlinksldjump"/>
          </p:cNvPr>
          <p:cNvSpPr/>
          <p:nvPr/>
        </p:nvSpPr>
        <p:spPr>
          <a:xfrm>
            <a:off x="3059280" y="5418000"/>
            <a:ext cx="3673440" cy="1440000"/>
          </a:xfrm>
          <a:prstGeom prst="wedgeEllipseCallout">
            <a:avLst>
              <a:gd name="adj1" fmla="val -7490"/>
              <a:gd name="adj2" fmla="val -83143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cff81"/>
                </a:solidFill>
                <a:latin typeface="Calibri"/>
              </a:rPr>
              <a:t>Kommunikációs eszközök az interne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Ellipszis feliratnak 15">
            <a:hlinkClick r:id="rId8" action="ppaction://hlinksldjump"/>
          </p:cNvPr>
          <p:cNvSpPr/>
          <p:nvPr/>
        </p:nvSpPr>
        <p:spPr>
          <a:xfrm>
            <a:off x="6516720" y="3213000"/>
            <a:ext cx="2448000" cy="1440000"/>
          </a:xfrm>
          <a:prstGeom prst="wedgeEllipseCallout">
            <a:avLst>
              <a:gd name="adj1" fmla="val -65870"/>
              <a:gd name="adj2" fmla="val -40208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cff81"/>
                </a:solidFill>
                <a:latin typeface="Calibri"/>
              </a:rPr>
              <a:t>Kérdés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ekerekített téglalap 1"/>
          <p:cNvSpPr/>
          <p:nvPr/>
        </p:nvSpPr>
        <p:spPr>
          <a:xfrm rot="5400000">
            <a:off x="5966640" y="3091680"/>
            <a:ext cx="5178240" cy="792000"/>
          </a:xfrm>
          <a:prstGeom prst="roundRect">
            <a:avLst>
              <a:gd name="adj" fmla="val 3315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Szerzői jogok</a:t>
            </a:r>
            <a:r>
              <a:rPr b="0" lang="hu-HU" sz="2400" spc="-1" strike="noStrike" baseline="30000">
                <a:solidFill>
                  <a:srgbClr val="dcff81"/>
                </a:solidFill>
                <a:latin typeface="Calibri"/>
              </a:rPr>
              <a:t>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Kép 6" descr=""/>
          <p:cNvPicPr/>
          <p:nvPr/>
        </p:nvPicPr>
        <p:blipFill>
          <a:blip r:embed="rId1"/>
          <a:stretch/>
        </p:blipFill>
        <p:spPr>
          <a:xfrm>
            <a:off x="-1231920" y="620640"/>
            <a:ext cx="2808360" cy="2867040"/>
          </a:xfrm>
          <a:prstGeom prst="rect">
            <a:avLst/>
          </a:prstGeom>
          <a:ln w="0">
            <a:noFill/>
          </a:ln>
        </p:spPr>
      </p:pic>
      <p:sp>
        <p:nvSpPr>
          <p:cNvPr id="59" name="Lekerekített téglalap feliratnak 7"/>
          <p:cNvSpPr/>
          <p:nvPr/>
        </p:nvSpPr>
        <p:spPr>
          <a:xfrm>
            <a:off x="1835280" y="765000"/>
            <a:ext cx="5761080" cy="5239080"/>
          </a:xfrm>
          <a:prstGeom prst="wedgeRoundRectCallout">
            <a:avLst>
              <a:gd name="adj1" fmla="val -75060"/>
              <a:gd name="adj2" fmla="val 638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Ha alkotunk valami maradandót a virtuális közösség számára, akkor azzal a szerzői jogoknak köszönhetően, nem élhet vissza senki. Ezek betartásáról a Szerzői Jogvédő Iroda (Artisjus) gondoskodik, megszegése esetén az elkövető pénzbírságra számíthat. Ezen jogok lejárta általában a szerző halálától számított 70 év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zövegdoboz 12">
            <a:hlinkClick r:id="rId2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zövegdoboz 13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zövegdoboz 14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zövegdoboz 15">
            <a:hlinkClick r:id="rId3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Kép 1" descr=""/>
          <p:cNvPicPr/>
          <p:nvPr/>
        </p:nvPicPr>
        <p:blipFill>
          <a:blip r:embed="rId1"/>
          <a:stretch/>
        </p:blipFill>
        <p:spPr>
          <a:xfrm rot="2068800">
            <a:off x="-789120" y="5218200"/>
            <a:ext cx="2867040" cy="2808360"/>
          </a:xfrm>
          <a:prstGeom prst="rect">
            <a:avLst/>
          </a:prstGeom>
          <a:ln w="0">
            <a:noFill/>
          </a:ln>
        </p:spPr>
      </p:pic>
      <p:pic>
        <p:nvPicPr>
          <p:cNvPr id="65" name="Kép 5" descr=""/>
          <p:cNvPicPr/>
          <p:nvPr/>
        </p:nvPicPr>
        <p:blipFill>
          <a:blip r:embed="rId2"/>
          <a:stretch/>
        </p:blipFill>
        <p:spPr>
          <a:xfrm>
            <a:off x="4340160" y="4897440"/>
            <a:ext cx="2060640" cy="2060640"/>
          </a:xfrm>
          <a:prstGeom prst="rect">
            <a:avLst/>
          </a:prstGeom>
          <a:ln w="0">
            <a:noFill/>
          </a:ln>
        </p:spPr>
      </p:pic>
      <p:pic>
        <p:nvPicPr>
          <p:cNvPr id="66" name="Kép 6" descr=""/>
          <p:cNvPicPr/>
          <p:nvPr/>
        </p:nvPicPr>
        <p:blipFill>
          <a:blip r:embed="rId3"/>
          <a:stretch/>
        </p:blipFill>
        <p:spPr>
          <a:xfrm>
            <a:off x="4334040" y="2852640"/>
            <a:ext cx="2103120" cy="4164120"/>
          </a:xfrm>
          <a:prstGeom prst="rect">
            <a:avLst/>
          </a:prstGeom>
          <a:ln w="0">
            <a:noFill/>
          </a:ln>
        </p:spPr>
      </p:pic>
      <p:sp>
        <p:nvSpPr>
          <p:cNvPr id="67" name="Lekerekített téglalap feliratnak 23"/>
          <p:cNvSpPr/>
          <p:nvPr/>
        </p:nvSpPr>
        <p:spPr>
          <a:xfrm>
            <a:off x="1835280" y="765000"/>
            <a:ext cx="6840360" cy="3600720"/>
          </a:xfrm>
          <a:prstGeom prst="wedgeRoundRectCallout">
            <a:avLst>
              <a:gd name="adj1" fmla="val -54120"/>
              <a:gd name="adj2" fmla="val 79486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Tehát ha van egy operációs rendszerem (pl.:Windows), akkor ha azt lemásolom és értékesítem a saját hasznomra, jogsértést </a:t>
            </a:r>
            <a:br>
              <a:rPr sz="2400"/>
            </a:b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követek-e 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zövegdoboz 24"/>
          <p:cNvSpPr/>
          <p:nvPr/>
        </p:nvSpPr>
        <p:spPr>
          <a:xfrm>
            <a:off x="3851280" y="3500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I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zövegdoboz 25"/>
          <p:cNvSpPr/>
          <p:nvPr/>
        </p:nvSpPr>
        <p:spPr>
          <a:xfrm>
            <a:off x="5940360" y="35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N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églalap 15">
            <a:hlinkClick r:id="" action="ppaction://hlinkshowjump?jump=nextslide"/>
          </p:cNvPr>
          <p:cNvSpPr/>
          <p:nvPr/>
        </p:nvSpPr>
        <p:spPr>
          <a:xfrm>
            <a:off x="4211640" y="5300640"/>
            <a:ext cx="2376360" cy="1008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cff81"/>
                </a:solidFill>
                <a:latin typeface="Calibri"/>
              </a:rPr>
              <a:t>Lépj tovább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zövegdoboz 16">
            <a:hlinkClick r:id="rId4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zövegdoboz 17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zövegdoboz 18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zövegdoboz 19">
            <a:hlinkClick r:id="rId5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Kép 5" descr=""/>
          <p:cNvPicPr/>
          <p:nvPr/>
        </p:nvPicPr>
        <p:blipFill>
          <a:blip r:embed="rId1"/>
          <a:stretch/>
        </p:blipFill>
        <p:spPr>
          <a:xfrm rot="18876000">
            <a:off x="7240680" y="4895640"/>
            <a:ext cx="2868480" cy="2808000"/>
          </a:xfrm>
          <a:prstGeom prst="rect">
            <a:avLst/>
          </a:prstGeom>
          <a:ln w="0">
            <a:noFill/>
          </a:ln>
        </p:spPr>
      </p:pic>
      <p:sp>
        <p:nvSpPr>
          <p:cNvPr id="76" name="Lekerekített téglalap feliratnak 6"/>
          <p:cNvSpPr/>
          <p:nvPr/>
        </p:nvSpPr>
        <p:spPr>
          <a:xfrm>
            <a:off x="900000" y="549360"/>
            <a:ext cx="7993080" cy="718920"/>
          </a:xfrm>
          <a:prstGeom prst="wedgeRoundRectCallout">
            <a:avLst>
              <a:gd name="adj1" fmla="val 42236"/>
              <a:gd name="adj2" fmla="val 542407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Kattints azokra a logókra, amik szerzői jogvédelem alatt állnak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Kép 7" descr=""/>
          <p:cNvPicPr/>
          <p:nvPr/>
        </p:nvPicPr>
        <p:blipFill>
          <a:blip r:embed="rId2"/>
          <a:stretch/>
        </p:blipFill>
        <p:spPr>
          <a:xfrm>
            <a:off x="808200" y="434808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78" name="Kép 8" descr=""/>
          <p:cNvPicPr/>
          <p:nvPr/>
        </p:nvPicPr>
        <p:blipFill>
          <a:blip r:embed="rId3"/>
          <a:stretch/>
        </p:blipFill>
        <p:spPr>
          <a:xfrm>
            <a:off x="3035160" y="2200320"/>
            <a:ext cx="2378160" cy="2023920"/>
          </a:xfrm>
          <a:prstGeom prst="rect">
            <a:avLst/>
          </a:prstGeom>
          <a:ln w="0">
            <a:noFill/>
          </a:ln>
        </p:spPr>
      </p:pic>
      <p:pic>
        <p:nvPicPr>
          <p:cNvPr id="79" name="Kép 9" descr=""/>
          <p:cNvPicPr/>
          <p:nvPr/>
        </p:nvPicPr>
        <p:blipFill>
          <a:blip r:embed="rId4"/>
          <a:srcRect l="65507" t="0" r="0" b="55781"/>
          <a:stretch/>
        </p:blipFill>
        <p:spPr>
          <a:xfrm>
            <a:off x="4594320" y="4132440"/>
            <a:ext cx="1976400" cy="1584000"/>
          </a:xfrm>
          <a:prstGeom prst="rect">
            <a:avLst/>
          </a:prstGeom>
          <a:ln w="0">
            <a:noFill/>
          </a:ln>
        </p:spPr>
      </p:pic>
      <p:pic>
        <p:nvPicPr>
          <p:cNvPr id="80" name="Kép 10" descr=""/>
          <p:cNvPicPr/>
          <p:nvPr/>
        </p:nvPicPr>
        <p:blipFill>
          <a:blip r:embed="rId5"/>
          <a:stretch/>
        </p:blipFill>
        <p:spPr>
          <a:xfrm>
            <a:off x="2824200" y="4076640"/>
            <a:ext cx="1558800" cy="1495440"/>
          </a:xfrm>
          <a:prstGeom prst="rect">
            <a:avLst/>
          </a:prstGeom>
          <a:ln w="0">
            <a:noFill/>
          </a:ln>
        </p:spPr>
      </p:pic>
      <p:pic>
        <p:nvPicPr>
          <p:cNvPr id="81" name="Kép 11" descr=""/>
          <p:cNvPicPr/>
          <p:nvPr/>
        </p:nvPicPr>
        <p:blipFill>
          <a:blip r:embed="rId6"/>
          <a:stretch/>
        </p:blipFill>
        <p:spPr>
          <a:xfrm>
            <a:off x="1376280" y="220500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82" name="Kép 13" descr=""/>
          <p:cNvPicPr/>
          <p:nvPr/>
        </p:nvPicPr>
        <p:blipFill>
          <a:blip r:embed="rId7"/>
          <a:stretch/>
        </p:blipFill>
        <p:spPr>
          <a:xfrm>
            <a:off x="3549600" y="4091040"/>
            <a:ext cx="762120" cy="736560"/>
          </a:xfrm>
          <a:prstGeom prst="rect">
            <a:avLst/>
          </a:prstGeom>
          <a:ln w="0">
            <a:noFill/>
          </a:ln>
        </p:spPr>
      </p:pic>
      <p:pic>
        <p:nvPicPr>
          <p:cNvPr id="83" name="Kép 14" descr=""/>
          <p:cNvPicPr/>
          <p:nvPr/>
        </p:nvPicPr>
        <p:blipFill>
          <a:blip r:embed="rId8"/>
          <a:stretch/>
        </p:blipFill>
        <p:spPr>
          <a:xfrm>
            <a:off x="4832280" y="1836720"/>
            <a:ext cx="762120" cy="736560"/>
          </a:xfrm>
          <a:prstGeom prst="rect">
            <a:avLst/>
          </a:prstGeom>
          <a:ln w="0">
            <a:noFill/>
          </a:ln>
        </p:spPr>
      </p:pic>
      <p:pic>
        <p:nvPicPr>
          <p:cNvPr id="84" name="Kép 15" descr=""/>
          <p:cNvPicPr/>
          <p:nvPr/>
        </p:nvPicPr>
        <p:blipFill>
          <a:blip r:embed="rId9"/>
          <a:stretch/>
        </p:blipFill>
        <p:spPr>
          <a:xfrm>
            <a:off x="1327320" y="4132440"/>
            <a:ext cx="761760" cy="738000"/>
          </a:xfrm>
          <a:prstGeom prst="rect">
            <a:avLst/>
          </a:prstGeom>
          <a:ln w="0">
            <a:noFill/>
          </a:ln>
        </p:spPr>
      </p:pic>
      <p:pic>
        <p:nvPicPr>
          <p:cNvPr id="85" name="Kép 16" descr=""/>
          <p:cNvPicPr/>
          <p:nvPr/>
        </p:nvPicPr>
        <p:blipFill>
          <a:blip r:embed="rId10"/>
          <a:stretch/>
        </p:blipFill>
        <p:spPr>
          <a:xfrm>
            <a:off x="5573880" y="3971880"/>
            <a:ext cx="795240" cy="782640"/>
          </a:xfrm>
          <a:prstGeom prst="rect">
            <a:avLst/>
          </a:prstGeom>
          <a:ln w="0">
            <a:noFill/>
          </a:ln>
        </p:spPr>
      </p:pic>
      <p:pic>
        <p:nvPicPr>
          <p:cNvPr id="86" name="Kép 17" descr=""/>
          <p:cNvPicPr/>
          <p:nvPr/>
        </p:nvPicPr>
        <p:blipFill>
          <a:blip r:embed="rId11"/>
          <a:stretch/>
        </p:blipFill>
        <p:spPr>
          <a:xfrm>
            <a:off x="1946160" y="1944720"/>
            <a:ext cx="795600" cy="782640"/>
          </a:xfrm>
          <a:prstGeom prst="rect">
            <a:avLst/>
          </a:prstGeom>
          <a:ln w="0">
            <a:noFill/>
          </a:ln>
        </p:spPr>
      </p:pic>
      <p:sp>
        <p:nvSpPr>
          <p:cNvPr id="87" name="Szövegdoboz 22">
            <a:hlinkClick r:id="rId12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zövegdoboz 23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zövegdoboz 24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zövegdoboz 25">
            <a:hlinkClick r:id="rId13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ekerekített téglalap 6"/>
          <p:cNvSpPr/>
          <p:nvPr/>
        </p:nvSpPr>
        <p:spPr>
          <a:xfrm rot="5400000">
            <a:off x="5950440" y="3101040"/>
            <a:ext cx="5178600" cy="792000"/>
          </a:xfrm>
          <a:prstGeom prst="roundRect">
            <a:avLst>
              <a:gd name="adj" fmla="val 3315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dcff81"/>
                </a:solidFill>
                <a:latin typeface="Calibri"/>
              </a:rPr>
              <a:t>Kommunikációs eszközök az interne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Kép 9" descr=""/>
          <p:cNvPicPr/>
          <p:nvPr/>
        </p:nvPicPr>
        <p:blipFill>
          <a:blip r:embed="rId1"/>
          <a:stretch/>
        </p:blipFill>
        <p:spPr>
          <a:xfrm>
            <a:off x="1332000" y="-1333440"/>
            <a:ext cx="2867040" cy="2808360"/>
          </a:xfrm>
          <a:prstGeom prst="rect">
            <a:avLst/>
          </a:prstGeom>
          <a:ln w="0">
            <a:noFill/>
          </a:ln>
        </p:spPr>
      </p:pic>
      <p:sp>
        <p:nvSpPr>
          <p:cNvPr id="93" name="Lekerekített téglalap feliratnak 10"/>
          <p:cNvSpPr/>
          <p:nvPr/>
        </p:nvSpPr>
        <p:spPr>
          <a:xfrm>
            <a:off x="1403280" y="1628640"/>
            <a:ext cx="6408720" cy="4824720"/>
          </a:xfrm>
          <a:prstGeom prst="wedgeRoundRectCallout">
            <a:avLst>
              <a:gd name="adj1" fmla="val 388"/>
              <a:gd name="adj2" fmla="val -67666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dcff81"/>
                </a:solidFill>
                <a:latin typeface="Calibri"/>
              </a:rPr>
              <a:t>A legfontosabb talán mind közül a </a:t>
            </a:r>
            <a:r>
              <a:rPr b="1" lang="hu-HU" sz="2300" spc="-1" strike="noStrike" u="sng">
                <a:solidFill>
                  <a:srgbClr val="dcff81"/>
                </a:solidFill>
                <a:uFillTx/>
                <a:latin typeface="Calibri"/>
              </a:rPr>
              <a:t>chat</a:t>
            </a:r>
            <a:r>
              <a:rPr b="0" lang="hu-HU" sz="2300" spc="-1" strike="noStrike">
                <a:solidFill>
                  <a:srgbClr val="dcff81"/>
                </a:solidFill>
                <a:latin typeface="Calibri"/>
              </a:rPr>
              <a:t>, amelyen minden percben több tíz- vagy akár százezer ember cseveg világszerte. Az online chatszobákban is mérvadó a </a:t>
            </a:r>
            <a:r>
              <a:rPr b="1" lang="hu-HU" sz="2300" spc="-1" strike="noStrike">
                <a:solidFill>
                  <a:srgbClr val="dcff81"/>
                </a:solidFill>
                <a:latin typeface="Calibri"/>
              </a:rPr>
              <a:t>netikett </a:t>
            </a:r>
            <a:r>
              <a:rPr b="0" lang="hu-HU" sz="2300" spc="-1" strike="noStrike">
                <a:solidFill>
                  <a:srgbClr val="dcff81"/>
                </a:solidFill>
                <a:latin typeface="Calibri"/>
              </a:rPr>
              <a:t>(lásd később vagy </a:t>
            </a:r>
            <a:r>
              <a:rPr b="0" lang="hu-HU" sz="23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itt</a:t>
            </a:r>
            <a:r>
              <a:rPr b="0" lang="hu-HU" sz="2300" spc="-1" strike="noStrike">
                <a:solidFill>
                  <a:srgbClr val="dcff81"/>
                </a:solidFill>
                <a:latin typeface="Calibri"/>
              </a:rPr>
              <a:t>), ezért néhány helyen a kicsit szabadabb szájú megnyilvánulásokért, kizárás járha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dcff81"/>
                </a:solidFill>
                <a:latin typeface="Calibri"/>
              </a:rPr>
              <a:t>A második legmeghatározóbb eszköz, az </a:t>
            </a:r>
            <a:r>
              <a:rPr b="1" lang="hu-HU" sz="2300" spc="-1" strike="noStrike" u="sng">
                <a:solidFill>
                  <a:srgbClr val="dcff81"/>
                </a:solidFill>
                <a:uFillTx/>
                <a:latin typeface="Calibri"/>
              </a:rPr>
              <a:t>e-mail</a:t>
            </a:r>
            <a:r>
              <a:rPr b="0" lang="hu-HU" sz="2300" spc="-1" strike="noStrike">
                <a:solidFill>
                  <a:srgbClr val="dcff81"/>
                </a:solidFill>
                <a:latin typeface="Calibri"/>
              </a:rPr>
              <a:t>. Ennek segítségével küldhetünk/fogadhatunk nagyobb terjedelmű fájlokat</a:t>
            </a:r>
            <a:r>
              <a:rPr b="1" lang="hu-HU" sz="2300" spc="-1" strike="noStrike">
                <a:solidFill>
                  <a:srgbClr val="dcff81"/>
                </a:solidFill>
                <a:latin typeface="Calibri"/>
              </a:rPr>
              <a:t> </a:t>
            </a:r>
            <a:r>
              <a:rPr b="0" lang="hu-HU" sz="2300" spc="-1" strike="noStrike">
                <a:solidFill>
                  <a:srgbClr val="dcff81"/>
                </a:solidFill>
                <a:latin typeface="Calibri"/>
              </a:rPr>
              <a:t> és szövegeket, hátránya, hogy valamivel lassabb az </a:t>
            </a:r>
            <a:br>
              <a:rPr sz="2300"/>
            </a:br>
            <a:r>
              <a:rPr b="0" lang="hu-HU" sz="2300" spc="-1" strike="noStrike">
                <a:solidFill>
                  <a:srgbClr val="dcff81"/>
                </a:solidFill>
                <a:latin typeface="Calibri"/>
              </a:rPr>
              <a:t>chatnél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zövegdoboz 14">
            <a:hlinkClick r:id="rId3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zövegdoboz 15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zövegdoboz 16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zövegdoboz 17">
            <a:hlinkClick r:id="rId4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ép 7" descr=""/>
          <p:cNvPicPr/>
          <p:nvPr/>
        </p:nvPicPr>
        <p:blipFill>
          <a:blip r:embed="rId1"/>
          <a:stretch/>
        </p:blipFill>
        <p:spPr>
          <a:xfrm rot="2416800">
            <a:off x="-765000" y="5103360"/>
            <a:ext cx="2868480" cy="2808360"/>
          </a:xfrm>
          <a:prstGeom prst="rect">
            <a:avLst/>
          </a:prstGeom>
          <a:ln w="0">
            <a:noFill/>
          </a:ln>
        </p:spPr>
      </p:pic>
      <p:sp>
        <p:nvSpPr>
          <p:cNvPr id="99" name="Lekerekített téglalap feliratnak 8"/>
          <p:cNvSpPr/>
          <p:nvPr/>
        </p:nvSpPr>
        <p:spPr>
          <a:xfrm>
            <a:off x="1619280" y="549360"/>
            <a:ext cx="6553080" cy="718920"/>
          </a:xfrm>
          <a:prstGeom prst="wedgeRoundRectCallout">
            <a:avLst>
              <a:gd name="adj1" fmla="val -69180"/>
              <a:gd name="adj2" fmla="val 558532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dcff81"/>
                </a:solidFill>
                <a:latin typeface="Calibri"/>
              </a:rPr>
              <a:t>Kattints arra az online tevékenységre, amelyik szerinted a legnépszerűbb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églalap 13"/>
          <p:cNvSpPr/>
          <p:nvPr/>
        </p:nvSpPr>
        <p:spPr>
          <a:xfrm>
            <a:off x="4441680" y="3141720"/>
            <a:ext cx="2689200" cy="7189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Közösségi oldalak látogat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églalap 15"/>
          <p:cNvSpPr/>
          <p:nvPr/>
        </p:nvSpPr>
        <p:spPr>
          <a:xfrm>
            <a:off x="4427640" y="2276640"/>
            <a:ext cx="2689200" cy="720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Chatel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églalap 16"/>
          <p:cNvSpPr/>
          <p:nvPr/>
        </p:nvSpPr>
        <p:spPr>
          <a:xfrm>
            <a:off x="4427640" y="4005360"/>
            <a:ext cx="2689200" cy="7189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E-mailez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Kép 22" descr="img-stamp-yes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 rot="837600">
            <a:off x="3165120" y="2547720"/>
            <a:ext cx="4968720" cy="2679480"/>
          </a:xfrm>
          <a:prstGeom prst="rect">
            <a:avLst/>
          </a:prstGeom>
          <a:ln w="0">
            <a:noFill/>
          </a:ln>
        </p:spPr>
      </p:pic>
      <p:sp>
        <p:nvSpPr>
          <p:cNvPr id="104" name="Téglalap 14"/>
          <p:cNvSpPr/>
          <p:nvPr/>
        </p:nvSpPr>
        <p:spPr>
          <a:xfrm>
            <a:off x="4427640" y="4869000"/>
            <a:ext cx="2689200" cy="720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Filmnéz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llipszis feliratnak 32"/>
          <p:cNvSpPr/>
          <p:nvPr/>
        </p:nvSpPr>
        <p:spPr>
          <a:xfrm>
            <a:off x="1403280" y="3716280"/>
            <a:ext cx="2737080" cy="1584360"/>
          </a:xfrm>
          <a:prstGeom prst="wedgeEllipseCallout">
            <a:avLst>
              <a:gd name="adj1" fmla="val -30453"/>
              <a:gd name="adj2" fmla="val 65125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cff81"/>
                </a:solidFill>
                <a:latin typeface="Calibri"/>
              </a:rPr>
              <a:t>… </a:t>
            </a:r>
            <a:r>
              <a:rPr b="0" lang="hu-HU" sz="3200" spc="-1" strike="noStrike">
                <a:solidFill>
                  <a:srgbClr val="dcff81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llipszis feliratnak 33"/>
          <p:cNvSpPr/>
          <p:nvPr/>
        </p:nvSpPr>
        <p:spPr>
          <a:xfrm>
            <a:off x="1403280" y="3716280"/>
            <a:ext cx="2737080" cy="1584360"/>
          </a:xfrm>
          <a:prstGeom prst="wedgeEllipseCallout">
            <a:avLst>
              <a:gd name="adj1" fmla="val -30453"/>
              <a:gd name="adj2" fmla="val 65125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cff81"/>
                </a:solidFill>
                <a:latin typeface="Calibri"/>
              </a:rPr>
              <a:t>… </a:t>
            </a:r>
            <a:r>
              <a:rPr b="0" lang="hu-HU" sz="3200" spc="-1" strike="noStrike">
                <a:solidFill>
                  <a:srgbClr val="dcff81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llipszis feliratnak 34"/>
          <p:cNvSpPr/>
          <p:nvPr/>
        </p:nvSpPr>
        <p:spPr>
          <a:xfrm>
            <a:off x="1403280" y="3716280"/>
            <a:ext cx="2737080" cy="1584360"/>
          </a:xfrm>
          <a:prstGeom prst="wedgeEllipseCallout">
            <a:avLst>
              <a:gd name="adj1" fmla="val -30453"/>
              <a:gd name="adj2" fmla="val 65125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dcff81"/>
                </a:solidFill>
                <a:latin typeface="Calibri"/>
              </a:rPr>
              <a:t>… </a:t>
            </a:r>
            <a:r>
              <a:rPr b="0" lang="hu-HU" sz="3200" spc="-1" strike="noStrike">
                <a:solidFill>
                  <a:srgbClr val="dcff81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zövegdoboz 21">
            <a:hlinkClick r:id="rId3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zövegdoboz 23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zövegdoboz 24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zövegdoboz 25">
            <a:hlinkClick r:id="rId4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path" presetID="15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7.40741E-007 L 0.19115 0.18056 L 0.11771 0.47245 L -0.11788 0.47245 L -0.19115 0.18056 L 1.11022E-016 -7.40741E-007 Z">
                                      <p:cBhvr>
                                        <p:cTn id="260" dur="20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14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21927 3.33333E-006 L 0.30816 0.38865 L 0.08871 0.38865 L 4.44444E-006 3.33333E-006 Z">
                                      <p:cBhvr>
                                        <p:cTn id="262" dur="20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C -0.02812 -0.00671 -0.05781 -0.01203 -0.0875 -0.01203 C -0.22691 -0.01203 -0.33594 0.06389 -0.33594 0.15602 C -0.33594 0.24676 -0.22691 0.3213 -0.0875 0.3213 C -0.05781 0.3213 -0.02812 0.31736 1.11022E-016 0.31065 C -0.09358 0.28658 -0.1592 0.22662 -0.1592 0.15602 C -0.1592 0.08403 -0.09358 0.02408 1.11022E-016 -2.59259E-006 Z">
                                      <p:cBhvr>
                                        <p:cTn id="264" dur="20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13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26406 -0.4831 L -0.26354 -0.4831 L -1.11111E-006 0 Z">
                                      <p:cBhvr>
                                        <p:cTn id="266" dur="20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Kép 9" descr=""/>
          <p:cNvPicPr/>
          <p:nvPr/>
        </p:nvPicPr>
        <p:blipFill>
          <a:blip r:embed="rId1"/>
          <a:stretch/>
        </p:blipFill>
        <p:spPr>
          <a:xfrm>
            <a:off x="2909880" y="5373720"/>
            <a:ext cx="2867040" cy="2808360"/>
          </a:xfrm>
          <a:prstGeom prst="rect">
            <a:avLst/>
          </a:prstGeom>
          <a:ln w="0">
            <a:noFill/>
          </a:ln>
        </p:spPr>
      </p:pic>
      <p:sp>
        <p:nvSpPr>
          <p:cNvPr id="113" name="Lekerekített téglalap feliratnak 10"/>
          <p:cNvSpPr/>
          <p:nvPr/>
        </p:nvSpPr>
        <p:spPr>
          <a:xfrm>
            <a:off x="1619280" y="692280"/>
            <a:ext cx="5977080" cy="3960720"/>
          </a:xfrm>
          <a:prstGeom prst="wedgeRoundRectCallout">
            <a:avLst>
              <a:gd name="adj1" fmla="val 8847"/>
              <a:gd name="adj2" fmla="val 72041"/>
              <a:gd name="adj3" fmla="val 16667"/>
            </a:avLst>
          </a:prstGeom>
          <a:solidFill>
            <a:srgbClr val="f8f8f8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dcff81"/>
                </a:solidFill>
                <a:latin typeface="Calibri"/>
              </a:rPr>
              <a:t>Ahhoz, hogy gépünket megóvhassuk a nem várt vírusoktól/kémprogramoktól, rendelkeznünk kell egy megfelelő vírusirtóval, amely lehetőleg naprakész és nem próbaverzió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soportba foglalás 6" descr=""/>
          <p:cNvPicPr/>
          <p:nvPr/>
        </p:nvPicPr>
        <p:blipFill>
          <a:blip r:embed="rId2"/>
          <a:stretch/>
        </p:blipFill>
        <p:spPr>
          <a:xfrm>
            <a:off x="8101080" y="901800"/>
            <a:ext cx="890640" cy="5187960"/>
          </a:xfrm>
          <a:prstGeom prst="rect">
            <a:avLst/>
          </a:prstGeom>
          <a:ln w="0">
            <a:noFill/>
          </a:ln>
        </p:spPr>
      </p:pic>
      <p:grpSp>
        <p:nvGrpSpPr>
          <p:cNvPr id="115" name="Csoportba foglalás 15"/>
          <p:cNvGrpSpPr/>
          <p:nvPr/>
        </p:nvGrpSpPr>
        <p:grpSpPr>
          <a:xfrm>
            <a:off x="5408640" y="4869000"/>
            <a:ext cx="3735360" cy="1989000"/>
            <a:chOff x="5408640" y="4869000"/>
            <a:chExt cx="3735360" cy="1989000"/>
          </a:xfrm>
        </p:grpSpPr>
        <p:pic>
          <p:nvPicPr>
            <p:cNvPr id="116" name="Kép 7" descr=""/>
            <p:cNvPicPr/>
            <p:nvPr/>
          </p:nvPicPr>
          <p:blipFill>
            <a:blip r:embed="rId3"/>
            <a:stretch/>
          </p:blipFill>
          <p:spPr>
            <a:xfrm>
              <a:off x="5408640" y="4869000"/>
              <a:ext cx="3735360" cy="19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Szövegdoboz 13"/>
            <p:cNvSpPr/>
            <p:nvPr/>
          </p:nvSpPr>
          <p:spPr>
            <a:xfrm>
              <a:off x="5593320" y="4941000"/>
              <a:ext cx="273672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f8f8f8"/>
                  </a:solidFill>
                  <a:latin typeface="Calibri"/>
                </a:rPr>
                <a:t>Én például az Avastot használom, de nagyon jó még pl.: a NOD32 és a Norton Internet Security</a:t>
              </a:r>
              <a:r>
                <a:rPr b="0" lang="hu-HU" sz="1600" spc="-1" strike="noStrike" baseline="30000">
                  <a:solidFill>
                    <a:srgbClr val="f8f8f8"/>
                  </a:solidFill>
                  <a:latin typeface="Calibri"/>
                </a:rPr>
                <a:t>TM </a:t>
              </a:r>
              <a:r>
                <a:rPr b="0" lang="hu-HU" sz="1600" spc="-1" strike="noStrike">
                  <a:solidFill>
                    <a:srgbClr val="f8f8f8"/>
                  </a:solidFill>
                  <a:latin typeface="Calibri"/>
                </a:rPr>
                <a:t>is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f8f8f8"/>
                  </a:solidFill>
                  <a:latin typeface="Calibri"/>
                </a:rPr>
                <a:t>FONTOS! Hogy mielőtt ilyen szoftvert telepítünk, járunk utána, hogy melyik a legjobb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Szövegdoboz 16"/>
          <p:cNvSpPr/>
          <p:nvPr/>
        </p:nvSpPr>
        <p:spPr>
          <a:xfrm>
            <a:off x="8813880" y="4952880"/>
            <a:ext cx="155520" cy="184320"/>
          </a:xfrm>
          <a:prstGeom prst="rect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Avast Alarm (5.0 version).mp3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" name="Szövegdoboz 22">
            <a:hlinkClick r:id="rId5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zövegdoboz 23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zövegdoboz 24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zövegdoboz 25">
            <a:hlinkClick r:id="rId6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644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Kép 6" descr=""/>
          <p:cNvPicPr/>
          <p:nvPr/>
        </p:nvPicPr>
        <p:blipFill>
          <a:blip r:embed="rId1"/>
          <a:stretch/>
        </p:blipFill>
        <p:spPr>
          <a:xfrm>
            <a:off x="6276960" y="-819000"/>
            <a:ext cx="2867040" cy="2808000"/>
          </a:xfrm>
          <a:prstGeom prst="rect">
            <a:avLst/>
          </a:prstGeom>
          <a:ln w="0">
            <a:noFill/>
          </a:ln>
        </p:spPr>
      </p:pic>
      <p:sp>
        <p:nvSpPr>
          <p:cNvPr id="125" name="Téglalap 5"/>
          <p:cNvSpPr/>
          <p:nvPr/>
        </p:nvSpPr>
        <p:spPr>
          <a:xfrm>
            <a:off x="4343400" y="15840"/>
            <a:ext cx="4800600" cy="370080"/>
          </a:xfrm>
          <a:prstGeom prst="rect">
            <a:avLst/>
          </a:prstGeom>
          <a:solidFill>
            <a:srgbClr val="0d1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ekerekített téglalap feliratnak 19"/>
          <p:cNvSpPr/>
          <p:nvPr/>
        </p:nvSpPr>
        <p:spPr>
          <a:xfrm>
            <a:off x="452520" y="584280"/>
            <a:ext cx="5487840" cy="684000"/>
          </a:xfrm>
          <a:prstGeom prst="wedgeRoundRectCallout">
            <a:avLst>
              <a:gd name="adj1" fmla="val 59629"/>
              <a:gd name="adj2" fmla="val -52652"/>
              <a:gd name="adj3" fmla="val 1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Milyen módon védheted meg számítógépedet a kártékony programoktól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llipszis 32"/>
          <p:cNvSpPr/>
          <p:nvPr/>
        </p:nvSpPr>
        <p:spPr>
          <a:xfrm rot="2181600">
            <a:off x="-430200" y="6906960"/>
            <a:ext cx="68400" cy="8794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32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obbanás 2 33"/>
          <p:cNvSpPr/>
          <p:nvPr/>
        </p:nvSpPr>
        <p:spPr>
          <a:xfrm rot="4965000">
            <a:off x="2899080" y="2528640"/>
            <a:ext cx="936360" cy="93672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llipszis 36"/>
          <p:cNvSpPr/>
          <p:nvPr/>
        </p:nvSpPr>
        <p:spPr>
          <a:xfrm rot="18927600">
            <a:off x="9748440" y="6802200"/>
            <a:ext cx="68400" cy="88092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80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bbanás 2 37"/>
          <p:cNvSpPr/>
          <p:nvPr/>
        </p:nvSpPr>
        <p:spPr>
          <a:xfrm rot="111600">
            <a:off x="5491080" y="2565000"/>
            <a:ext cx="936720" cy="936720"/>
          </a:xfrm>
          <a:prstGeom prst="irregularSeal2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zövegdoboz 7"/>
          <p:cNvSpPr/>
          <p:nvPr/>
        </p:nvSpPr>
        <p:spPr>
          <a:xfrm>
            <a:off x="1932120" y="3214800"/>
            <a:ext cx="5432400" cy="41400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Legfrissebb verziójú vírusirtóva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zövegdoboz 17"/>
          <p:cNvSpPr/>
          <p:nvPr/>
        </p:nvSpPr>
        <p:spPr>
          <a:xfrm>
            <a:off x="1908000" y="3902040"/>
            <a:ext cx="5432760" cy="41400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Neo Citranna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zövegdoboz 18"/>
          <p:cNvSpPr/>
          <p:nvPr/>
        </p:nvSpPr>
        <p:spPr>
          <a:xfrm>
            <a:off x="1932120" y="4595760"/>
            <a:ext cx="5432400" cy="41400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Biztonságos jelszó használatáva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zövegdoboz 20"/>
          <p:cNvSpPr/>
          <p:nvPr/>
        </p:nvSpPr>
        <p:spPr>
          <a:xfrm>
            <a:off x="1932120" y="2481120"/>
            <a:ext cx="5433840" cy="41400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dcff81"/>
                </a:solidFill>
                <a:latin typeface="Calibri"/>
              </a:rPr>
              <a:t>PC-Doktorra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llipszis feliratnak 9"/>
          <p:cNvSpPr/>
          <p:nvPr/>
        </p:nvSpPr>
        <p:spPr>
          <a:xfrm>
            <a:off x="4343400" y="1268280"/>
            <a:ext cx="2244600" cy="1008360"/>
          </a:xfrm>
          <a:prstGeom prst="wedgeEllipseCallout">
            <a:avLst>
              <a:gd name="adj1" fmla="val 47060"/>
              <a:gd name="adj2" fmla="val -87592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dcff81"/>
                </a:solidFill>
                <a:latin typeface="Calibri"/>
              </a:rPr>
              <a:t>JAJ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llipszis feliratnak 24"/>
          <p:cNvSpPr/>
          <p:nvPr/>
        </p:nvSpPr>
        <p:spPr>
          <a:xfrm>
            <a:off x="2098800" y="1465200"/>
            <a:ext cx="2244600" cy="1008000"/>
          </a:xfrm>
          <a:prstGeom prst="wedgeEllipseCallout">
            <a:avLst>
              <a:gd name="adj1" fmla="val 148902"/>
              <a:gd name="adj2" fmla="val -78953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dcff81"/>
                </a:solidFill>
                <a:latin typeface="Calibri"/>
              </a:rPr>
              <a:t>NEE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llipszis feliratnak 25"/>
          <p:cNvSpPr/>
          <p:nvPr/>
        </p:nvSpPr>
        <p:spPr>
          <a:xfrm>
            <a:off x="5508720" y="3278160"/>
            <a:ext cx="3384360" cy="1519200"/>
          </a:xfrm>
          <a:prstGeom prst="wedgeEllipseCallout">
            <a:avLst>
              <a:gd name="adj1" fmla="val 11300"/>
              <a:gd name="adj2" fmla="val -132824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dcff81"/>
                </a:solidFill>
                <a:latin typeface="Calibri"/>
              </a:rPr>
              <a:t>ÚGY ÉRZEM NEM NETEZEL BIZTONSÁGOSAN! </a:t>
            </a:r>
            <a:r>
              <a:rPr b="0" lang="hu-HU" sz="2200" spc="-1" strike="noStrike">
                <a:solidFill>
                  <a:srgbClr val="dcff81"/>
                </a:solidFill>
                <a:latin typeface="Wingdings"/>
                <a:ea typeface="Wingdings"/>
              </a:rPr>
              <a:t>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églalap feliratnak 10">
            <a:hlinkClick r:id="" action="ppaction://hlinkshowjump?jump=nextslide"/>
          </p:cNvPr>
          <p:cNvSpPr/>
          <p:nvPr/>
        </p:nvSpPr>
        <p:spPr>
          <a:xfrm>
            <a:off x="3481560" y="3346560"/>
            <a:ext cx="2334960" cy="873000"/>
          </a:xfrm>
          <a:prstGeom prst="wedgeRectCallout">
            <a:avLst>
              <a:gd name="adj1" fmla="val 102990"/>
              <a:gd name="adj2" fmla="val -223171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dcff81"/>
                </a:solidFill>
                <a:latin typeface="Calibri"/>
              </a:rPr>
              <a:t>Lépj tovább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Fireworks Sound Effects - 30 Sound Pack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Fireworks Sound Effects - 30 Sound Pack.mp3" descr=""/>
          <p:cNvPicPr/>
          <p:nvPr/>
        </p:nvPicPr>
        <p:blipFill>
          <a:blip r:embed="rId3"/>
          <a:stretch/>
        </p:blipFill>
        <p:spPr>
          <a:xfrm>
            <a:off x="2509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Szövegdoboz 27">
            <a:hlinkClick r:id="rId4" action="ppaction://hlinksldjump"/>
          </p:cNvPr>
          <p:cNvSpPr/>
          <p:nvPr/>
        </p:nvSpPr>
        <p:spPr>
          <a:xfrm>
            <a:off x="4343400" y="15840"/>
            <a:ext cx="119844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zövegdoboz 30">
            <a:hlinkClick r:id="" action="ppaction://hlinkshowjump?jump=previousslide"/>
          </p:cNvPr>
          <p:cNvSpPr/>
          <p:nvPr/>
        </p:nvSpPr>
        <p:spPr>
          <a:xfrm>
            <a:off x="554184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Pre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zövegdoboz 31">
            <a:hlinkClick r:id="" action="ppaction://hlinkshowjump?jump=nextslide"/>
          </p:cNvPr>
          <p:cNvSpPr/>
          <p:nvPr/>
        </p:nvSpPr>
        <p:spPr>
          <a:xfrm>
            <a:off x="6740640" y="15840"/>
            <a:ext cx="119988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zövegdoboz 34">
            <a:hlinkClick r:id="rId5" action="ppaction://hlinksldjump"/>
          </p:cNvPr>
          <p:cNvSpPr/>
          <p:nvPr/>
        </p:nvSpPr>
        <p:spPr>
          <a:xfrm>
            <a:off x="7940520" y="15840"/>
            <a:ext cx="1198800" cy="368280"/>
          </a:xfrm>
          <a:prstGeom prst="rect">
            <a:avLst/>
          </a:prstGeom>
          <a:solidFill>
            <a:srgbClr val="000000">
              <a:alpha val="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197"/>
                            </p:stCondLst>
                            <p:childTnLst>
                              <p:par>
                                <p:cTn id="3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7271E-006 L 0.40938 -0.64432 E">
                                      <p:cBhvr>
                                        <p:cTn id="382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197"/>
                            </p:stCondLst>
                            <p:childTnLst>
                              <p:par>
                                <p:cTn id="3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197"/>
                            </p:stCondLst>
                            <p:childTnLst>
                              <p:par>
                                <p:cTn id="3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493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690"/>
                            </p:stCondLst>
                            <p:childTnLst>
                              <p:par>
                                <p:cTn id="3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500" fill="hold"/>
                                        <p:tgtEl>
                                          <p:spTgt spid="128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62812E-006 L -0.42014 -0.608 E">
                                      <p:cBhvr>
                                        <p:cTn id="401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69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690"/>
                            </p:stCondLst>
                            <p:childTnLst>
                              <p:par>
                                <p:cTn id="4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49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183"/>
                            </p:stCondLst>
                            <p:childTnLst>
                              <p:par>
                                <p:cTn id="4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5" dur="500" fill="hold"/>
                                        <p:tgtEl>
                                          <p:spTgt spid="130"/>
                                        </p:tgtEl>
                                      </p:cBhvr>
                                      <p:to x="450000" y="450000"/>
                                    </p:animScale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683"/>
                            </p:stCondLst>
                            <p:childTnLst>
                              <p:par>
                                <p:cTn id="4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9183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09:13:03Z</dcterms:created>
  <dc:creator>Dr.M</dc:creator>
  <dc:description/>
  <dc:language>en-US</dc:language>
  <cp:lastModifiedBy>Felhasználó</cp:lastModifiedBy>
  <dcterms:modified xsi:type="dcterms:W3CDTF">2013-03-16T14:29:56Z</dcterms:modified>
  <cp:revision>179</cp:revision>
  <dc:subject/>
  <dc:title>Az Internet veszélyei</dc:title>
</cp:coreProperties>
</file>